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explode.wav" ContentType="audio/x-wav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971880" y="-144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06000" y="700200"/>
            <a:ext cx="459900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Jester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Jester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4560" y="4385880"/>
            <a:ext cx="5140440" cy="4157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7724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971880" y="87724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5F5EE45-D09B-47A7-A459-8A1214C3CA4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971880" y="87724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0603AE2-33D3-40C0-977A-1FA1110104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87724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-144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71880" y="-144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Jester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Jest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Jester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Jester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Jest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Jeste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Je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Jester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Jest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Jester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Jester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Jes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99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p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85880" y="2914560"/>
            <a:ext cx="781200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6800" y="2914560"/>
            <a:ext cx="781200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51680" y="1828800"/>
            <a:ext cx="7861680" cy="2982960"/>
            <a:chOff x="751680" y="1828800"/>
            <a:chExt cx="7861680" cy="2982960"/>
          </a:xfrm>
        </p:grpSpPr>
        <p:sp>
          <p:nvSpPr>
            <p:cNvPr id="50" name=""/>
            <p:cNvSpPr/>
            <p:nvPr/>
          </p:nvSpPr>
          <p:spPr>
            <a:xfrm>
              <a:off x="4853160" y="44467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1245240" y="1828800"/>
              <a:ext cx="6895440" cy="1219320"/>
              <a:chOff x="1245240" y="1828800"/>
              <a:chExt cx="6895440" cy="12193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5240" y="2095560"/>
                <a:ext cx="344052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000066"/>
                    </a:solidFill>
                    <a:latin typeface="Marita Medium - HMK"/>
                  </a:rPr>
                  <a:t>How to Stay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4980240" y="1828800"/>
                <a:ext cx="3160440" cy="1219320"/>
                <a:chOff x="4980240" y="1828800"/>
                <a:chExt cx="3160440" cy="12193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4980240" y="2135160"/>
                  <a:ext cx="144108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cb0e02"/>
                      </a:solidFill>
                      <a:latin typeface="Arial Black"/>
                    </a:rPr>
                    <a:t>POSI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499440" y="1828800"/>
                  <a:ext cx="58284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0" spc="-1" strike="noStrike">
                      <a:solidFill>
                        <a:srgbClr val="cb0e02"/>
                      </a:solidFill>
                      <a:latin typeface="Arial Rounded MT Bold"/>
                    </a:rPr>
                    <a:t>+</a:t>
                  </a:r>
                  <a:endParaRPr b="0" lang="en-US" sz="8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164720" y="2135160"/>
                  <a:ext cx="97596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cb0e02"/>
                      </a:solidFill>
                      <a:latin typeface="Arial Black"/>
                    </a:rPr>
                    <a:t>IVE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" name=""/>
            <p:cNvSpPr/>
            <p:nvPr/>
          </p:nvSpPr>
          <p:spPr>
            <a:xfrm>
              <a:off x="4257720" y="2743200"/>
              <a:ext cx="10720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66"/>
                  </a:solidFill>
                  <a:latin typeface="Marita Medium - HMK"/>
                </a:rPr>
                <a:t>in 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751680" y="3489480"/>
              <a:ext cx="7861680" cy="769320"/>
              <a:chOff x="751680" y="3489480"/>
              <a:chExt cx="7861680" cy="769320"/>
            </a:xfrm>
          </p:grpSpPr>
          <p:sp>
            <p:nvSpPr>
              <p:cNvPr id="59" name=""/>
              <p:cNvSpPr/>
              <p:nvPr/>
            </p:nvSpPr>
            <p:spPr>
              <a:xfrm>
                <a:off x="751680" y="3527280"/>
                <a:ext cx="203688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000000"/>
                    </a:solidFill>
                    <a:latin typeface="Arial Black"/>
                  </a:rPr>
                  <a:t>TOUGH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264840" y="3489480"/>
                <a:ext cx="534852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000066"/>
                    </a:solidFill>
                    <a:latin typeface="Marita Medium - HMK"/>
                  </a:rPr>
                  <a:t>Work Environment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8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Jester"/>
              </a:rPr>
              <a:t>Choose the Right Luggage</a:t>
            </a:r>
            <a:endParaRPr b="0" lang="en-US" sz="4000" spc="-1" strike="noStrike">
              <a:solidFill>
                <a:srgbClr val="3333cc"/>
              </a:solidFill>
              <a:latin typeface="Jester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306520" y="1219320"/>
            <a:ext cx="4424040" cy="4725720"/>
            <a:chOff x="2306520" y="1219320"/>
            <a:chExt cx="4424040" cy="4725720"/>
          </a:xfrm>
        </p:grpSpPr>
        <p:sp>
          <p:nvSpPr>
            <p:cNvPr id="229" name=""/>
            <p:cNvSpPr/>
            <p:nvPr/>
          </p:nvSpPr>
          <p:spPr>
            <a:xfrm>
              <a:off x="3796920" y="1219320"/>
              <a:ext cx="949320" cy="1098360"/>
            </a:xfrm>
            <a:custGeom>
              <a:avLst/>
              <a:gdLst/>
              <a:ahLst/>
              <a:rect l="l" t="t" r="r" b="b"/>
              <a:pathLst>
                <a:path w="598" h="692">
                  <a:moveTo>
                    <a:pt x="191" y="41"/>
                  </a:moveTo>
                  <a:lnTo>
                    <a:pt x="242" y="8"/>
                  </a:lnTo>
                  <a:lnTo>
                    <a:pt x="308" y="0"/>
                  </a:lnTo>
                  <a:lnTo>
                    <a:pt x="367" y="20"/>
                  </a:lnTo>
                  <a:lnTo>
                    <a:pt x="432" y="65"/>
                  </a:lnTo>
                  <a:lnTo>
                    <a:pt x="512" y="175"/>
                  </a:lnTo>
                  <a:lnTo>
                    <a:pt x="568" y="305"/>
                  </a:lnTo>
                  <a:lnTo>
                    <a:pt x="594" y="414"/>
                  </a:lnTo>
                  <a:lnTo>
                    <a:pt x="597" y="519"/>
                  </a:lnTo>
                  <a:lnTo>
                    <a:pt x="586" y="600"/>
                  </a:lnTo>
                  <a:lnTo>
                    <a:pt x="551" y="656"/>
                  </a:lnTo>
                  <a:lnTo>
                    <a:pt x="499" y="691"/>
                  </a:lnTo>
                  <a:lnTo>
                    <a:pt x="451" y="671"/>
                  </a:lnTo>
                  <a:lnTo>
                    <a:pt x="376" y="642"/>
                  </a:lnTo>
                  <a:lnTo>
                    <a:pt x="291" y="538"/>
                  </a:lnTo>
                  <a:lnTo>
                    <a:pt x="226" y="406"/>
                  </a:lnTo>
                  <a:lnTo>
                    <a:pt x="220" y="385"/>
                  </a:lnTo>
                  <a:lnTo>
                    <a:pt x="38" y="355"/>
                  </a:lnTo>
                  <a:lnTo>
                    <a:pt x="0" y="295"/>
                  </a:lnTo>
                  <a:lnTo>
                    <a:pt x="13" y="272"/>
                  </a:lnTo>
                  <a:lnTo>
                    <a:pt x="210" y="324"/>
                  </a:lnTo>
                  <a:lnTo>
                    <a:pt x="177" y="246"/>
                  </a:lnTo>
                  <a:lnTo>
                    <a:pt x="161" y="138"/>
                  </a:lnTo>
                  <a:lnTo>
                    <a:pt x="177" y="78"/>
                  </a:lnTo>
                  <a:lnTo>
                    <a:pt x="191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06520" y="2009880"/>
              <a:ext cx="2020680" cy="718920"/>
            </a:xfrm>
            <a:custGeom>
              <a:avLst/>
              <a:gdLst/>
              <a:ahLst/>
              <a:rect l="l" t="t" r="r" b="b"/>
              <a:pathLst>
                <a:path w="1273" h="453">
                  <a:moveTo>
                    <a:pt x="1033" y="299"/>
                  </a:moveTo>
                  <a:lnTo>
                    <a:pt x="1088" y="337"/>
                  </a:lnTo>
                  <a:lnTo>
                    <a:pt x="1152" y="392"/>
                  </a:lnTo>
                  <a:lnTo>
                    <a:pt x="1243" y="396"/>
                  </a:lnTo>
                  <a:lnTo>
                    <a:pt x="1272" y="352"/>
                  </a:lnTo>
                  <a:lnTo>
                    <a:pt x="1263" y="293"/>
                  </a:lnTo>
                  <a:lnTo>
                    <a:pt x="1206" y="246"/>
                  </a:lnTo>
                  <a:lnTo>
                    <a:pt x="1091" y="191"/>
                  </a:lnTo>
                  <a:lnTo>
                    <a:pt x="996" y="142"/>
                  </a:lnTo>
                  <a:lnTo>
                    <a:pt x="902" y="109"/>
                  </a:lnTo>
                  <a:lnTo>
                    <a:pt x="789" y="43"/>
                  </a:lnTo>
                  <a:lnTo>
                    <a:pt x="662" y="0"/>
                  </a:lnTo>
                  <a:lnTo>
                    <a:pt x="539" y="81"/>
                  </a:lnTo>
                  <a:lnTo>
                    <a:pt x="425" y="128"/>
                  </a:lnTo>
                  <a:lnTo>
                    <a:pt x="337" y="177"/>
                  </a:lnTo>
                  <a:lnTo>
                    <a:pt x="239" y="205"/>
                  </a:lnTo>
                  <a:lnTo>
                    <a:pt x="170" y="213"/>
                  </a:lnTo>
                  <a:lnTo>
                    <a:pt x="22" y="265"/>
                  </a:lnTo>
                  <a:lnTo>
                    <a:pt x="0" y="363"/>
                  </a:lnTo>
                  <a:lnTo>
                    <a:pt x="1" y="305"/>
                  </a:lnTo>
                  <a:lnTo>
                    <a:pt x="63" y="399"/>
                  </a:lnTo>
                  <a:lnTo>
                    <a:pt x="60" y="302"/>
                  </a:lnTo>
                  <a:lnTo>
                    <a:pt x="96" y="452"/>
                  </a:lnTo>
                  <a:lnTo>
                    <a:pt x="174" y="408"/>
                  </a:lnTo>
                  <a:lnTo>
                    <a:pt x="247" y="314"/>
                  </a:lnTo>
                  <a:lnTo>
                    <a:pt x="338" y="276"/>
                  </a:lnTo>
                  <a:lnTo>
                    <a:pt x="462" y="222"/>
                  </a:lnTo>
                  <a:lnTo>
                    <a:pt x="562" y="168"/>
                  </a:lnTo>
                  <a:lnTo>
                    <a:pt x="656" y="102"/>
                  </a:lnTo>
                  <a:lnTo>
                    <a:pt x="846" y="187"/>
                  </a:lnTo>
                  <a:lnTo>
                    <a:pt x="933" y="231"/>
                  </a:lnTo>
                  <a:lnTo>
                    <a:pt x="1033" y="2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25720" y="2219400"/>
              <a:ext cx="2004840" cy="573120"/>
            </a:xfrm>
            <a:custGeom>
              <a:avLst/>
              <a:gdLst/>
              <a:ahLst/>
              <a:rect l="l" t="t" r="r" b="b"/>
              <a:pathLst>
                <a:path w="1263" h="361">
                  <a:moveTo>
                    <a:pt x="216" y="255"/>
                  </a:moveTo>
                  <a:lnTo>
                    <a:pt x="147" y="274"/>
                  </a:lnTo>
                  <a:lnTo>
                    <a:pt x="103" y="274"/>
                  </a:lnTo>
                  <a:lnTo>
                    <a:pt x="34" y="250"/>
                  </a:lnTo>
                  <a:lnTo>
                    <a:pt x="0" y="224"/>
                  </a:lnTo>
                  <a:lnTo>
                    <a:pt x="75" y="140"/>
                  </a:lnTo>
                  <a:lnTo>
                    <a:pt x="68" y="151"/>
                  </a:lnTo>
                  <a:lnTo>
                    <a:pt x="96" y="95"/>
                  </a:lnTo>
                  <a:lnTo>
                    <a:pt x="171" y="80"/>
                  </a:lnTo>
                  <a:lnTo>
                    <a:pt x="313" y="74"/>
                  </a:lnTo>
                  <a:lnTo>
                    <a:pt x="429" y="46"/>
                  </a:lnTo>
                  <a:lnTo>
                    <a:pt x="513" y="26"/>
                  </a:lnTo>
                  <a:lnTo>
                    <a:pt x="698" y="0"/>
                  </a:lnTo>
                  <a:lnTo>
                    <a:pt x="813" y="53"/>
                  </a:lnTo>
                  <a:lnTo>
                    <a:pt x="903" y="109"/>
                  </a:lnTo>
                  <a:lnTo>
                    <a:pt x="995" y="135"/>
                  </a:lnTo>
                  <a:lnTo>
                    <a:pt x="1060" y="160"/>
                  </a:lnTo>
                  <a:lnTo>
                    <a:pt x="1142" y="184"/>
                  </a:lnTo>
                  <a:lnTo>
                    <a:pt x="1238" y="205"/>
                  </a:lnTo>
                  <a:lnTo>
                    <a:pt x="1262" y="273"/>
                  </a:lnTo>
                  <a:lnTo>
                    <a:pt x="1211" y="309"/>
                  </a:lnTo>
                  <a:lnTo>
                    <a:pt x="1133" y="290"/>
                  </a:lnTo>
                  <a:lnTo>
                    <a:pt x="1122" y="360"/>
                  </a:lnTo>
                  <a:lnTo>
                    <a:pt x="1050" y="346"/>
                  </a:lnTo>
                  <a:lnTo>
                    <a:pt x="1065" y="255"/>
                  </a:lnTo>
                  <a:lnTo>
                    <a:pt x="989" y="222"/>
                  </a:lnTo>
                  <a:lnTo>
                    <a:pt x="868" y="184"/>
                  </a:lnTo>
                  <a:lnTo>
                    <a:pt x="772" y="99"/>
                  </a:lnTo>
                  <a:lnTo>
                    <a:pt x="593" y="100"/>
                  </a:lnTo>
                  <a:lnTo>
                    <a:pt x="497" y="151"/>
                  </a:lnTo>
                  <a:lnTo>
                    <a:pt x="380" y="189"/>
                  </a:lnTo>
                  <a:lnTo>
                    <a:pt x="276" y="233"/>
                  </a:lnTo>
                  <a:lnTo>
                    <a:pt x="216" y="2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96880" y="2408400"/>
              <a:ext cx="774720" cy="1715760"/>
            </a:xfrm>
            <a:custGeom>
              <a:avLst/>
              <a:gdLst/>
              <a:ahLst/>
              <a:rect l="l" t="t" r="r" b="b"/>
              <a:pathLst>
                <a:path w="488" h="1081">
                  <a:moveTo>
                    <a:pt x="186" y="0"/>
                  </a:moveTo>
                  <a:lnTo>
                    <a:pt x="260" y="0"/>
                  </a:lnTo>
                  <a:lnTo>
                    <a:pt x="349" y="19"/>
                  </a:lnTo>
                  <a:lnTo>
                    <a:pt x="398" y="76"/>
                  </a:lnTo>
                  <a:lnTo>
                    <a:pt x="447" y="180"/>
                  </a:lnTo>
                  <a:lnTo>
                    <a:pt x="470" y="259"/>
                  </a:lnTo>
                  <a:lnTo>
                    <a:pt x="487" y="353"/>
                  </a:lnTo>
                  <a:lnTo>
                    <a:pt x="487" y="467"/>
                  </a:lnTo>
                  <a:lnTo>
                    <a:pt x="479" y="582"/>
                  </a:lnTo>
                  <a:lnTo>
                    <a:pt x="470" y="706"/>
                  </a:lnTo>
                  <a:lnTo>
                    <a:pt x="438" y="859"/>
                  </a:lnTo>
                  <a:lnTo>
                    <a:pt x="398" y="965"/>
                  </a:lnTo>
                  <a:lnTo>
                    <a:pt x="324" y="1050"/>
                  </a:lnTo>
                  <a:lnTo>
                    <a:pt x="244" y="1080"/>
                  </a:lnTo>
                  <a:lnTo>
                    <a:pt x="155" y="1050"/>
                  </a:lnTo>
                  <a:lnTo>
                    <a:pt x="97" y="916"/>
                  </a:lnTo>
                  <a:lnTo>
                    <a:pt x="57" y="793"/>
                  </a:lnTo>
                  <a:lnTo>
                    <a:pt x="34" y="648"/>
                  </a:lnTo>
                  <a:lnTo>
                    <a:pt x="0" y="514"/>
                  </a:lnTo>
                  <a:lnTo>
                    <a:pt x="0" y="333"/>
                  </a:lnTo>
                  <a:lnTo>
                    <a:pt x="25" y="210"/>
                  </a:lnTo>
                  <a:lnTo>
                    <a:pt x="57" y="114"/>
                  </a:lnTo>
                  <a:lnTo>
                    <a:pt x="97" y="0"/>
                  </a:lnTo>
                  <a:lnTo>
                    <a:pt x="18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11320" y="3879720"/>
              <a:ext cx="595440" cy="1967040"/>
            </a:xfrm>
            <a:custGeom>
              <a:avLst/>
              <a:gdLst/>
              <a:ahLst/>
              <a:rect l="l" t="t" r="r" b="b"/>
              <a:pathLst>
                <a:path w="375" h="1239">
                  <a:moveTo>
                    <a:pt x="69" y="142"/>
                  </a:moveTo>
                  <a:lnTo>
                    <a:pt x="20" y="60"/>
                  </a:lnTo>
                  <a:lnTo>
                    <a:pt x="36" y="0"/>
                  </a:lnTo>
                  <a:lnTo>
                    <a:pt x="87" y="0"/>
                  </a:lnTo>
                  <a:lnTo>
                    <a:pt x="141" y="65"/>
                  </a:lnTo>
                  <a:lnTo>
                    <a:pt x="215" y="203"/>
                  </a:lnTo>
                  <a:lnTo>
                    <a:pt x="257" y="335"/>
                  </a:lnTo>
                  <a:lnTo>
                    <a:pt x="292" y="461"/>
                  </a:lnTo>
                  <a:lnTo>
                    <a:pt x="304" y="578"/>
                  </a:lnTo>
                  <a:lnTo>
                    <a:pt x="301" y="638"/>
                  </a:lnTo>
                  <a:lnTo>
                    <a:pt x="266" y="715"/>
                  </a:lnTo>
                  <a:lnTo>
                    <a:pt x="204" y="918"/>
                  </a:lnTo>
                  <a:lnTo>
                    <a:pt x="134" y="1034"/>
                  </a:lnTo>
                  <a:lnTo>
                    <a:pt x="118" y="1085"/>
                  </a:lnTo>
                  <a:lnTo>
                    <a:pt x="183" y="1095"/>
                  </a:lnTo>
                  <a:lnTo>
                    <a:pt x="269" y="1095"/>
                  </a:lnTo>
                  <a:lnTo>
                    <a:pt x="374" y="1142"/>
                  </a:lnTo>
                  <a:lnTo>
                    <a:pt x="366" y="1177"/>
                  </a:lnTo>
                  <a:lnTo>
                    <a:pt x="350" y="1217"/>
                  </a:lnTo>
                  <a:lnTo>
                    <a:pt x="317" y="1238"/>
                  </a:lnTo>
                  <a:lnTo>
                    <a:pt x="252" y="1206"/>
                  </a:lnTo>
                  <a:lnTo>
                    <a:pt x="183" y="1163"/>
                  </a:lnTo>
                  <a:lnTo>
                    <a:pt x="87" y="1156"/>
                  </a:lnTo>
                  <a:lnTo>
                    <a:pt x="25" y="1172"/>
                  </a:lnTo>
                  <a:lnTo>
                    <a:pt x="0" y="1145"/>
                  </a:lnTo>
                  <a:lnTo>
                    <a:pt x="0" y="1111"/>
                  </a:lnTo>
                  <a:lnTo>
                    <a:pt x="32" y="1071"/>
                  </a:lnTo>
                  <a:lnTo>
                    <a:pt x="87" y="1003"/>
                  </a:lnTo>
                  <a:lnTo>
                    <a:pt x="178" y="836"/>
                  </a:lnTo>
                  <a:lnTo>
                    <a:pt x="220" y="689"/>
                  </a:lnTo>
                  <a:lnTo>
                    <a:pt x="232" y="548"/>
                  </a:lnTo>
                  <a:lnTo>
                    <a:pt x="229" y="470"/>
                  </a:lnTo>
                  <a:lnTo>
                    <a:pt x="195" y="335"/>
                  </a:lnTo>
                  <a:lnTo>
                    <a:pt x="109" y="187"/>
                  </a:lnTo>
                  <a:lnTo>
                    <a:pt x="50" y="112"/>
                  </a:lnTo>
                  <a:lnTo>
                    <a:pt x="69" y="1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27240" y="3848040"/>
              <a:ext cx="593640" cy="2097000"/>
            </a:xfrm>
            <a:custGeom>
              <a:avLst/>
              <a:gdLst/>
              <a:ahLst/>
              <a:rect l="l" t="t" r="r" b="b"/>
              <a:pathLst>
                <a:path w="374" h="1321">
                  <a:moveTo>
                    <a:pt x="192" y="236"/>
                  </a:moveTo>
                  <a:lnTo>
                    <a:pt x="250" y="104"/>
                  </a:lnTo>
                  <a:lnTo>
                    <a:pt x="304" y="0"/>
                  </a:lnTo>
                  <a:lnTo>
                    <a:pt x="346" y="0"/>
                  </a:lnTo>
                  <a:lnTo>
                    <a:pt x="368" y="41"/>
                  </a:lnTo>
                  <a:lnTo>
                    <a:pt x="373" y="112"/>
                  </a:lnTo>
                  <a:lnTo>
                    <a:pt x="338" y="165"/>
                  </a:lnTo>
                  <a:lnTo>
                    <a:pt x="279" y="232"/>
                  </a:lnTo>
                  <a:lnTo>
                    <a:pt x="233" y="307"/>
                  </a:lnTo>
                  <a:lnTo>
                    <a:pt x="186" y="411"/>
                  </a:lnTo>
                  <a:lnTo>
                    <a:pt x="165" y="482"/>
                  </a:lnTo>
                  <a:lnTo>
                    <a:pt x="145" y="573"/>
                  </a:lnTo>
                  <a:lnTo>
                    <a:pt x="142" y="687"/>
                  </a:lnTo>
                  <a:lnTo>
                    <a:pt x="149" y="792"/>
                  </a:lnTo>
                  <a:lnTo>
                    <a:pt x="171" y="920"/>
                  </a:lnTo>
                  <a:lnTo>
                    <a:pt x="216" y="1035"/>
                  </a:lnTo>
                  <a:lnTo>
                    <a:pt x="254" y="1099"/>
                  </a:lnTo>
                  <a:lnTo>
                    <a:pt x="276" y="1148"/>
                  </a:lnTo>
                  <a:lnTo>
                    <a:pt x="279" y="1186"/>
                  </a:lnTo>
                  <a:lnTo>
                    <a:pt x="260" y="1200"/>
                  </a:lnTo>
                  <a:lnTo>
                    <a:pt x="213" y="1208"/>
                  </a:lnTo>
                  <a:lnTo>
                    <a:pt x="142" y="1238"/>
                  </a:lnTo>
                  <a:lnTo>
                    <a:pt x="87" y="1276"/>
                  </a:lnTo>
                  <a:lnTo>
                    <a:pt x="53" y="1320"/>
                  </a:lnTo>
                  <a:lnTo>
                    <a:pt x="23" y="1309"/>
                  </a:lnTo>
                  <a:lnTo>
                    <a:pt x="0" y="1257"/>
                  </a:lnTo>
                  <a:lnTo>
                    <a:pt x="0" y="1214"/>
                  </a:lnTo>
                  <a:lnTo>
                    <a:pt x="53" y="1177"/>
                  </a:lnTo>
                  <a:lnTo>
                    <a:pt x="145" y="1153"/>
                  </a:lnTo>
                  <a:lnTo>
                    <a:pt x="229" y="1139"/>
                  </a:lnTo>
                  <a:lnTo>
                    <a:pt x="192" y="1085"/>
                  </a:lnTo>
                  <a:lnTo>
                    <a:pt x="168" y="1019"/>
                  </a:lnTo>
                  <a:lnTo>
                    <a:pt x="137" y="925"/>
                  </a:lnTo>
                  <a:lnTo>
                    <a:pt x="103" y="825"/>
                  </a:lnTo>
                  <a:lnTo>
                    <a:pt x="94" y="701"/>
                  </a:lnTo>
                  <a:lnTo>
                    <a:pt x="91" y="583"/>
                  </a:lnTo>
                  <a:lnTo>
                    <a:pt x="115" y="468"/>
                  </a:lnTo>
                  <a:lnTo>
                    <a:pt x="158" y="317"/>
                  </a:lnTo>
                  <a:lnTo>
                    <a:pt x="192" y="2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934920" y="2467080"/>
            <a:ext cx="3114360" cy="1877760"/>
            <a:chOff x="934920" y="2467080"/>
            <a:chExt cx="3114360" cy="1877760"/>
          </a:xfrm>
        </p:grpSpPr>
        <p:sp>
          <p:nvSpPr>
            <p:cNvPr id="236" name=""/>
            <p:cNvSpPr/>
            <p:nvPr/>
          </p:nvSpPr>
          <p:spPr>
            <a:xfrm>
              <a:off x="998280" y="2511360"/>
              <a:ext cx="3009960" cy="1803600"/>
            </a:xfrm>
            <a:custGeom>
              <a:avLst/>
              <a:gdLst/>
              <a:ahLst/>
              <a:rect l="l" t="t" r="r" b="b"/>
              <a:pathLst>
                <a:path w="1896" h="1136">
                  <a:moveTo>
                    <a:pt x="1725" y="87"/>
                  </a:moveTo>
                  <a:lnTo>
                    <a:pt x="1526" y="0"/>
                  </a:lnTo>
                  <a:lnTo>
                    <a:pt x="1185" y="0"/>
                  </a:lnTo>
                  <a:lnTo>
                    <a:pt x="858" y="12"/>
                  </a:lnTo>
                  <a:lnTo>
                    <a:pt x="528" y="39"/>
                  </a:lnTo>
                  <a:lnTo>
                    <a:pt x="145" y="97"/>
                  </a:lnTo>
                  <a:lnTo>
                    <a:pt x="77" y="239"/>
                  </a:lnTo>
                  <a:lnTo>
                    <a:pt x="26" y="365"/>
                  </a:lnTo>
                  <a:lnTo>
                    <a:pt x="0" y="546"/>
                  </a:lnTo>
                  <a:lnTo>
                    <a:pt x="0" y="649"/>
                  </a:lnTo>
                  <a:lnTo>
                    <a:pt x="0" y="754"/>
                  </a:lnTo>
                  <a:lnTo>
                    <a:pt x="14" y="888"/>
                  </a:lnTo>
                  <a:lnTo>
                    <a:pt x="77" y="954"/>
                  </a:lnTo>
                  <a:lnTo>
                    <a:pt x="145" y="1014"/>
                  </a:lnTo>
                  <a:lnTo>
                    <a:pt x="304" y="1061"/>
                  </a:lnTo>
                  <a:lnTo>
                    <a:pt x="435" y="1108"/>
                  </a:lnTo>
                  <a:lnTo>
                    <a:pt x="657" y="1135"/>
                  </a:lnTo>
                  <a:lnTo>
                    <a:pt x="884" y="1117"/>
                  </a:lnTo>
                  <a:lnTo>
                    <a:pt x="1185" y="1080"/>
                  </a:lnTo>
                  <a:lnTo>
                    <a:pt x="1395" y="1061"/>
                  </a:lnTo>
                  <a:lnTo>
                    <a:pt x="1606" y="1022"/>
                  </a:lnTo>
                  <a:lnTo>
                    <a:pt x="1750" y="995"/>
                  </a:lnTo>
                  <a:lnTo>
                    <a:pt x="1816" y="946"/>
                  </a:lnTo>
                  <a:lnTo>
                    <a:pt x="1856" y="917"/>
                  </a:lnTo>
                  <a:lnTo>
                    <a:pt x="1895" y="851"/>
                  </a:lnTo>
                  <a:lnTo>
                    <a:pt x="1895" y="639"/>
                  </a:lnTo>
                  <a:lnTo>
                    <a:pt x="1895" y="297"/>
                  </a:lnTo>
                  <a:lnTo>
                    <a:pt x="1895" y="212"/>
                  </a:lnTo>
                  <a:lnTo>
                    <a:pt x="1856" y="183"/>
                  </a:lnTo>
                  <a:lnTo>
                    <a:pt x="1725" y="87"/>
                  </a:lnTo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34920" y="2467080"/>
              <a:ext cx="3114360" cy="1877760"/>
            </a:xfrm>
            <a:custGeom>
              <a:avLst/>
              <a:gdLst/>
              <a:ahLst/>
              <a:rect l="l" t="t" r="r" b="b"/>
              <a:pathLst>
                <a:path w="1962" h="1183">
                  <a:moveTo>
                    <a:pt x="409" y="278"/>
                  </a:moveTo>
                  <a:lnTo>
                    <a:pt x="435" y="325"/>
                  </a:lnTo>
                  <a:lnTo>
                    <a:pt x="671" y="296"/>
                  </a:lnTo>
                  <a:lnTo>
                    <a:pt x="856" y="268"/>
                  </a:lnTo>
                  <a:lnTo>
                    <a:pt x="987" y="249"/>
                  </a:lnTo>
                  <a:lnTo>
                    <a:pt x="1120" y="240"/>
                  </a:lnTo>
                  <a:lnTo>
                    <a:pt x="1330" y="220"/>
                  </a:lnTo>
                  <a:lnTo>
                    <a:pt x="1657" y="183"/>
                  </a:lnTo>
                  <a:lnTo>
                    <a:pt x="1765" y="163"/>
                  </a:lnTo>
                  <a:lnTo>
                    <a:pt x="1566" y="68"/>
                  </a:lnTo>
                  <a:lnTo>
                    <a:pt x="1197" y="59"/>
                  </a:lnTo>
                  <a:lnTo>
                    <a:pt x="529" y="97"/>
                  </a:lnTo>
                  <a:lnTo>
                    <a:pt x="304" y="134"/>
                  </a:lnTo>
                  <a:lnTo>
                    <a:pt x="330" y="202"/>
                  </a:lnTo>
                  <a:lnTo>
                    <a:pt x="344" y="249"/>
                  </a:lnTo>
                  <a:lnTo>
                    <a:pt x="318" y="286"/>
                  </a:lnTo>
                  <a:lnTo>
                    <a:pt x="225" y="240"/>
                  </a:lnTo>
                  <a:lnTo>
                    <a:pt x="134" y="334"/>
                  </a:lnTo>
                  <a:lnTo>
                    <a:pt x="91" y="488"/>
                  </a:lnTo>
                  <a:lnTo>
                    <a:pt x="66" y="679"/>
                  </a:lnTo>
                  <a:lnTo>
                    <a:pt x="80" y="889"/>
                  </a:lnTo>
                  <a:lnTo>
                    <a:pt x="148" y="982"/>
                  </a:lnTo>
                  <a:lnTo>
                    <a:pt x="239" y="1031"/>
                  </a:lnTo>
                  <a:lnTo>
                    <a:pt x="276" y="879"/>
                  </a:lnTo>
                  <a:lnTo>
                    <a:pt x="290" y="467"/>
                  </a:lnTo>
                  <a:lnTo>
                    <a:pt x="290" y="307"/>
                  </a:lnTo>
                  <a:lnTo>
                    <a:pt x="344" y="307"/>
                  </a:lnTo>
                  <a:lnTo>
                    <a:pt x="370" y="315"/>
                  </a:lnTo>
                  <a:lnTo>
                    <a:pt x="384" y="735"/>
                  </a:lnTo>
                  <a:lnTo>
                    <a:pt x="384" y="1079"/>
                  </a:lnTo>
                  <a:lnTo>
                    <a:pt x="529" y="1116"/>
                  </a:lnTo>
                  <a:lnTo>
                    <a:pt x="867" y="1116"/>
                  </a:lnTo>
                  <a:lnTo>
                    <a:pt x="1356" y="1070"/>
                  </a:lnTo>
                  <a:lnTo>
                    <a:pt x="1737" y="1002"/>
                  </a:lnTo>
                  <a:lnTo>
                    <a:pt x="1884" y="908"/>
                  </a:lnTo>
                  <a:lnTo>
                    <a:pt x="1896" y="621"/>
                  </a:lnTo>
                  <a:lnTo>
                    <a:pt x="1896" y="268"/>
                  </a:lnTo>
                  <a:lnTo>
                    <a:pt x="1856" y="212"/>
                  </a:lnTo>
                  <a:lnTo>
                    <a:pt x="1910" y="152"/>
                  </a:lnTo>
                  <a:lnTo>
                    <a:pt x="1947" y="212"/>
                  </a:lnTo>
                  <a:lnTo>
                    <a:pt x="1961" y="440"/>
                  </a:lnTo>
                  <a:lnTo>
                    <a:pt x="1961" y="667"/>
                  </a:lnTo>
                  <a:lnTo>
                    <a:pt x="1947" y="898"/>
                  </a:lnTo>
                  <a:lnTo>
                    <a:pt x="1896" y="992"/>
                  </a:lnTo>
                  <a:lnTo>
                    <a:pt x="1737" y="1070"/>
                  </a:lnTo>
                  <a:lnTo>
                    <a:pt x="1461" y="1116"/>
                  </a:lnTo>
                  <a:lnTo>
                    <a:pt x="1171" y="1145"/>
                  </a:lnTo>
                  <a:lnTo>
                    <a:pt x="898" y="1182"/>
                  </a:lnTo>
                  <a:lnTo>
                    <a:pt x="554" y="1182"/>
                  </a:lnTo>
                  <a:lnTo>
                    <a:pt x="318" y="1136"/>
                  </a:lnTo>
                  <a:lnTo>
                    <a:pt x="159" y="1060"/>
                  </a:lnTo>
                  <a:lnTo>
                    <a:pt x="28" y="936"/>
                  </a:lnTo>
                  <a:lnTo>
                    <a:pt x="14" y="850"/>
                  </a:lnTo>
                  <a:lnTo>
                    <a:pt x="0" y="630"/>
                  </a:lnTo>
                  <a:lnTo>
                    <a:pt x="14" y="478"/>
                  </a:lnTo>
                  <a:lnTo>
                    <a:pt x="40" y="286"/>
                  </a:lnTo>
                  <a:lnTo>
                    <a:pt x="120" y="125"/>
                  </a:lnTo>
                  <a:lnTo>
                    <a:pt x="120" y="78"/>
                  </a:lnTo>
                  <a:lnTo>
                    <a:pt x="395" y="49"/>
                  </a:lnTo>
                  <a:lnTo>
                    <a:pt x="765" y="30"/>
                  </a:lnTo>
                  <a:lnTo>
                    <a:pt x="1080" y="12"/>
                  </a:lnTo>
                  <a:lnTo>
                    <a:pt x="1305" y="0"/>
                  </a:lnTo>
                  <a:lnTo>
                    <a:pt x="1592" y="12"/>
                  </a:lnTo>
                  <a:lnTo>
                    <a:pt x="1700" y="68"/>
                  </a:lnTo>
                  <a:lnTo>
                    <a:pt x="1842" y="125"/>
                  </a:lnTo>
                  <a:lnTo>
                    <a:pt x="1751" y="163"/>
                  </a:lnTo>
                  <a:lnTo>
                    <a:pt x="1737" y="144"/>
                  </a:lnTo>
                  <a:lnTo>
                    <a:pt x="1725" y="125"/>
                  </a:lnTo>
                  <a:lnTo>
                    <a:pt x="409" y="2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 rot="20700000">
            <a:off x="1660320" y="3124080"/>
            <a:ext cx="2224080" cy="824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ester"/>
              </a:rPr>
              <a:t>Dodge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24080" y="2482920"/>
            <a:ext cx="758880" cy="301680"/>
          </a:xfrm>
          <a:custGeom>
            <a:avLst/>
            <a:gdLst/>
            <a:ahLst/>
            <a:rect l="l" t="t" r="r" b="b"/>
            <a:pathLst>
              <a:path w="478" h="190">
                <a:moveTo>
                  <a:pt x="43" y="136"/>
                </a:moveTo>
                <a:lnTo>
                  <a:pt x="128" y="30"/>
                </a:lnTo>
                <a:lnTo>
                  <a:pt x="176" y="25"/>
                </a:lnTo>
                <a:lnTo>
                  <a:pt x="414" y="0"/>
                </a:lnTo>
                <a:lnTo>
                  <a:pt x="467" y="43"/>
                </a:lnTo>
                <a:lnTo>
                  <a:pt x="472" y="91"/>
                </a:lnTo>
                <a:lnTo>
                  <a:pt x="477" y="139"/>
                </a:lnTo>
                <a:lnTo>
                  <a:pt x="382" y="149"/>
                </a:lnTo>
                <a:lnTo>
                  <a:pt x="377" y="101"/>
                </a:lnTo>
                <a:lnTo>
                  <a:pt x="324" y="58"/>
                </a:lnTo>
                <a:lnTo>
                  <a:pt x="181" y="73"/>
                </a:lnTo>
                <a:lnTo>
                  <a:pt x="143" y="174"/>
                </a:lnTo>
                <a:lnTo>
                  <a:pt x="0" y="189"/>
                </a:lnTo>
                <a:lnTo>
                  <a:pt x="43" y="13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191200" y="2585880"/>
            <a:ext cx="3190680" cy="2033640"/>
            <a:chOff x="5191200" y="2585880"/>
            <a:chExt cx="3190680" cy="2033640"/>
          </a:xfrm>
        </p:grpSpPr>
        <p:sp>
          <p:nvSpPr>
            <p:cNvPr id="241" name=""/>
            <p:cNvSpPr/>
            <p:nvPr/>
          </p:nvSpPr>
          <p:spPr>
            <a:xfrm>
              <a:off x="5191200" y="2654280"/>
              <a:ext cx="3114720" cy="1909800"/>
            </a:xfrm>
            <a:custGeom>
              <a:avLst/>
              <a:gdLst/>
              <a:ahLst/>
              <a:rect l="l" t="t" r="r" b="b"/>
              <a:pathLst>
                <a:path w="1962" h="1203">
                  <a:moveTo>
                    <a:pt x="153" y="197"/>
                  </a:moveTo>
                  <a:lnTo>
                    <a:pt x="340" y="80"/>
                  </a:lnTo>
                  <a:lnTo>
                    <a:pt x="680" y="38"/>
                  </a:lnTo>
                  <a:lnTo>
                    <a:pt x="1007" y="11"/>
                  </a:lnTo>
                  <a:lnTo>
                    <a:pt x="1338" y="0"/>
                  </a:lnTo>
                  <a:lnTo>
                    <a:pt x="1727" y="15"/>
                  </a:lnTo>
                  <a:lnTo>
                    <a:pt x="1814" y="160"/>
                  </a:lnTo>
                  <a:lnTo>
                    <a:pt x="1881" y="288"/>
                  </a:lnTo>
                  <a:lnTo>
                    <a:pt x="1931" y="479"/>
                  </a:lnTo>
                  <a:lnTo>
                    <a:pt x="1944" y="590"/>
                  </a:lnTo>
                  <a:lnTo>
                    <a:pt x="1958" y="703"/>
                  </a:lnTo>
                  <a:lnTo>
                    <a:pt x="1961" y="848"/>
                  </a:lnTo>
                  <a:lnTo>
                    <a:pt x="1908" y="927"/>
                  </a:lnTo>
                  <a:lnTo>
                    <a:pt x="1848" y="998"/>
                  </a:lnTo>
                  <a:lnTo>
                    <a:pt x="1696" y="1069"/>
                  </a:lnTo>
                  <a:lnTo>
                    <a:pt x="1573" y="1136"/>
                  </a:lnTo>
                  <a:lnTo>
                    <a:pt x="1354" y="1192"/>
                  </a:lnTo>
                  <a:lnTo>
                    <a:pt x="1127" y="1199"/>
                  </a:lnTo>
                  <a:lnTo>
                    <a:pt x="821" y="1196"/>
                  </a:lnTo>
                  <a:lnTo>
                    <a:pt x="610" y="1202"/>
                  </a:lnTo>
                  <a:lnTo>
                    <a:pt x="395" y="1187"/>
                  </a:lnTo>
                  <a:lnTo>
                    <a:pt x="247" y="1175"/>
                  </a:lnTo>
                  <a:lnTo>
                    <a:pt x="176" y="1130"/>
                  </a:lnTo>
                  <a:lnTo>
                    <a:pt x="132" y="1104"/>
                  </a:lnTo>
                  <a:lnTo>
                    <a:pt x="84" y="1038"/>
                  </a:lnTo>
                  <a:lnTo>
                    <a:pt x="56" y="811"/>
                  </a:lnTo>
                  <a:lnTo>
                    <a:pt x="11" y="444"/>
                  </a:lnTo>
                  <a:lnTo>
                    <a:pt x="0" y="353"/>
                  </a:lnTo>
                  <a:lnTo>
                    <a:pt x="36" y="317"/>
                  </a:lnTo>
                  <a:lnTo>
                    <a:pt x="153" y="197"/>
                  </a:lnTo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91200" y="2585880"/>
              <a:ext cx="3190680" cy="2033640"/>
            </a:xfrm>
            <a:custGeom>
              <a:avLst/>
              <a:gdLst/>
              <a:ahLst/>
              <a:rect l="l" t="t" r="r" b="b"/>
              <a:pathLst>
                <a:path w="2010" h="1281">
                  <a:moveTo>
                    <a:pt x="1541" y="250"/>
                  </a:moveTo>
                  <a:lnTo>
                    <a:pt x="1521" y="304"/>
                  </a:lnTo>
                  <a:lnTo>
                    <a:pt x="1283" y="301"/>
                  </a:lnTo>
                  <a:lnTo>
                    <a:pt x="1094" y="294"/>
                  </a:lnTo>
                  <a:lnTo>
                    <a:pt x="962" y="289"/>
                  </a:lnTo>
                  <a:lnTo>
                    <a:pt x="828" y="297"/>
                  </a:lnTo>
                  <a:lnTo>
                    <a:pt x="615" y="300"/>
                  </a:lnTo>
                  <a:lnTo>
                    <a:pt x="285" y="301"/>
                  </a:lnTo>
                  <a:lnTo>
                    <a:pt x="175" y="292"/>
                  </a:lnTo>
                  <a:lnTo>
                    <a:pt x="361" y="166"/>
                  </a:lnTo>
                  <a:lnTo>
                    <a:pt x="727" y="112"/>
                  </a:lnTo>
                  <a:lnTo>
                    <a:pt x="1398" y="70"/>
                  </a:lnTo>
                  <a:lnTo>
                    <a:pt x="1626" y="82"/>
                  </a:lnTo>
                  <a:lnTo>
                    <a:pt x="1610" y="158"/>
                  </a:lnTo>
                  <a:lnTo>
                    <a:pt x="1602" y="211"/>
                  </a:lnTo>
                  <a:lnTo>
                    <a:pt x="1632" y="248"/>
                  </a:lnTo>
                  <a:lnTo>
                    <a:pt x="1719" y="188"/>
                  </a:lnTo>
                  <a:lnTo>
                    <a:pt x="1823" y="276"/>
                  </a:lnTo>
                  <a:lnTo>
                    <a:pt x="1884" y="436"/>
                  </a:lnTo>
                  <a:lnTo>
                    <a:pt x="1935" y="638"/>
                  </a:lnTo>
                  <a:lnTo>
                    <a:pt x="1950" y="866"/>
                  </a:lnTo>
                  <a:lnTo>
                    <a:pt x="1894" y="974"/>
                  </a:lnTo>
                  <a:lnTo>
                    <a:pt x="1810" y="1037"/>
                  </a:lnTo>
                  <a:lnTo>
                    <a:pt x="1753" y="879"/>
                  </a:lnTo>
                  <a:lnTo>
                    <a:pt x="1684" y="439"/>
                  </a:lnTo>
                  <a:lnTo>
                    <a:pt x="1663" y="267"/>
                  </a:lnTo>
                  <a:lnTo>
                    <a:pt x="1609" y="272"/>
                  </a:lnTo>
                  <a:lnTo>
                    <a:pt x="1585" y="285"/>
                  </a:lnTo>
                  <a:lnTo>
                    <a:pt x="1626" y="738"/>
                  </a:lnTo>
                  <a:lnTo>
                    <a:pt x="1672" y="1107"/>
                  </a:lnTo>
                  <a:lnTo>
                    <a:pt x="1533" y="1164"/>
                  </a:lnTo>
                  <a:lnTo>
                    <a:pt x="1195" y="1205"/>
                  </a:lnTo>
                  <a:lnTo>
                    <a:pt x="702" y="1216"/>
                  </a:lnTo>
                  <a:lnTo>
                    <a:pt x="314" y="1190"/>
                  </a:lnTo>
                  <a:lnTo>
                    <a:pt x="155" y="1106"/>
                  </a:lnTo>
                  <a:lnTo>
                    <a:pt x="105" y="800"/>
                  </a:lnTo>
                  <a:lnTo>
                    <a:pt x="59" y="420"/>
                  </a:lnTo>
                  <a:lnTo>
                    <a:pt x="91" y="356"/>
                  </a:lnTo>
                  <a:lnTo>
                    <a:pt x="29" y="299"/>
                  </a:lnTo>
                  <a:lnTo>
                    <a:pt x="0" y="367"/>
                  </a:lnTo>
                  <a:lnTo>
                    <a:pt x="16" y="614"/>
                  </a:lnTo>
                  <a:lnTo>
                    <a:pt x="46" y="858"/>
                  </a:lnTo>
                  <a:lnTo>
                    <a:pt x="90" y="1103"/>
                  </a:lnTo>
                  <a:lnTo>
                    <a:pt x="154" y="1199"/>
                  </a:lnTo>
                  <a:lnTo>
                    <a:pt x="323" y="1263"/>
                  </a:lnTo>
                  <a:lnTo>
                    <a:pt x="603" y="1278"/>
                  </a:lnTo>
                  <a:lnTo>
                    <a:pt x="896" y="1274"/>
                  </a:lnTo>
                  <a:lnTo>
                    <a:pt x="1173" y="1280"/>
                  </a:lnTo>
                  <a:lnTo>
                    <a:pt x="1516" y="1238"/>
                  </a:lnTo>
                  <a:lnTo>
                    <a:pt x="1745" y="1160"/>
                  </a:lnTo>
                  <a:lnTo>
                    <a:pt x="1893" y="1059"/>
                  </a:lnTo>
                  <a:lnTo>
                    <a:pt x="2007" y="910"/>
                  </a:lnTo>
                  <a:lnTo>
                    <a:pt x="2009" y="815"/>
                  </a:lnTo>
                  <a:lnTo>
                    <a:pt x="1995" y="578"/>
                  </a:lnTo>
                  <a:lnTo>
                    <a:pt x="1961" y="416"/>
                  </a:lnTo>
                  <a:lnTo>
                    <a:pt x="1909" y="214"/>
                  </a:lnTo>
                  <a:lnTo>
                    <a:pt x="1809" y="50"/>
                  </a:lnTo>
                  <a:lnTo>
                    <a:pt x="1803" y="0"/>
                  </a:lnTo>
                  <a:lnTo>
                    <a:pt x="1525" y="2"/>
                  </a:lnTo>
                  <a:lnTo>
                    <a:pt x="1154" y="28"/>
                  </a:lnTo>
                  <a:lnTo>
                    <a:pt x="838" y="46"/>
                  </a:lnTo>
                  <a:lnTo>
                    <a:pt x="612" y="62"/>
                  </a:lnTo>
                  <a:lnTo>
                    <a:pt x="328" y="109"/>
                  </a:lnTo>
                  <a:lnTo>
                    <a:pt x="228" y="183"/>
                  </a:lnTo>
                  <a:lnTo>
                    <a:pt x="93" y="261"/>
                  </a:lnTo>
                  <a:lnTo>
                    <a:pt x="189" y="291"/>
                  </a:lnTo>
                  <a:lnTo>
                    <a:pt x="201" y="268"/>
                  </a:lnTo>
                  <a:lnTo>
                    <a:pt x="210" y="248"/>
                  </a:lnTo>
                  <a:lnTo>
                    <a:pt x="1541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 rot="300000">
            <a:off x="5409000" y="3498480"/>
            <a:ext cx="2224080" cy="824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ester"/>
              </a:rPr>
              <a:t>Be Bullet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51400" y="2660760"/>
            <a:ext cx="762120" cy="242640"/>
          </a:xfrm>
          <a:custGeom>
            <a:avLst/>
            <a:gdLst/>
            <a:ahLst/>
            <a:rect l="l" t="t" r="r" b="b"/>
            <a:pathLst>
              <a:path w="480" h="153">
                <a:moveTo>
                  <a:pt x="47" y="103"/>
                </a:moveTo>
                <a:lnTo>
                  <a:pt x="141" y="5"/>
                </a:lnTo>
                <a:lnTo>
                  <a:pt x="189" y="4"/>
                </a:lnTo>
                <a:lnTo>
                  <a:pt x="429" y="0"/>
                </a:lnTo>
                <a:lnTo>
                  <a:pt x="478" y="47"/>
                </a:lnTo>
                <a:lnTo>
                  <a:pt x="478" y="95"/>
                </a:lnTo>
                <a:lnTo>
                  <a:pt x="479" y="144"/>
                </a:lnTo>
                <a:lnTo>
                  <a:pt x="384" y="145"/>
                </a:lnTo>
                <a:lnTo>
                  <a:pt x="383" y="97"/>
                </a:lnTo>
                <a:lnTo>
                  <a:pt x="334" y="50"/>
                </a:lnTo>
                <a:lnTo>
                  <a:pt x="190" y="52"/>
                </a:lnTo>
                <a:lnTo>
                  <a:pt x="143" y="149"/>
                </a:lnTo>
                <a:lnTo>
                  <a:pt x="0" y="152"/>
                </a:lnTo>
                <a:lnTo>
                  <a:pt x="47" y="10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3360" y="2590920"/>
            <a:ext cx="230040" cy="230040"/>
          </a:xfrm>
          <a:custGeom>
            <a:avLst/>
            <a:gdLst/>
            <a:ahLst/>
            <a:rect l="l" t="t" r="r" b="b"/>
            <a:pathLst>
              <a:path w="145" h="145">
                <a:moveTo>
                  <a:pt x="0" y="0"/>
                </a:moveTo>
                <a:lnTo>
                  <a:pt x="24" y="32"/>
                </a:lnTo>
                <a:lnTo>
                  <a:pt x="144" y="96"/>
                </a:lnTo>
                <a:lnTo>
                  <a:pt x="96" y="144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752480" y="2819520"/>
            <a:ext cx="6478560" cy="306360"/>
            <a:chOff x="1752480" y="2819520"/>
            <a:chExt cx="6478560" cy="306360"/>
          </a:xfrm>
        </p:grpSpPr>
        <p:sp>
          <p:nvSpPr>
            <p:cNvPr id="247" name=""/>
            <p:cNvSpPr/>
            <p:nvPr/>
          </p:nvSpPr>
          <p:spPr>
            <a:xfrm>
              <a:off x="5562720" y="2971800"/>
              <a:ext cx="306360" cy="1540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96" y="0"/>
                  </a:moveTo>
                  <a:lnTo>
                    <a:pt x="0" y="96"/>
                  </a:lnTo>
                  <a:lnTo>
                    <a:pt x="48" y="96"/>
                  </a:lnTo>
                  <a:lnTo>
                    <a:pt x="192" y="48"/>
                  </a:lnTo>
                  <a:lnTo>
                    <a:pt x="9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24680" y="2895480"/>
              <a:ext cx="306360" cy="1540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96" y="0"/>
                  </a:moveTo>
                  <a:lnTo>
                    <a:pt x="0" y="96"/>
                  </a:lnTo>
                  <a:lnTo>
                    <a:pt x="48" y="96"/>
                  </a:lnTo>
                  <a:lnTo>
                    <a:pt x="192" y="48"/>
                  </a:lnTo>
                  <a:lnTo>
                    <a:pt x="9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52480" y="2819520"/>
              <a:ext cx="306360" cy="15372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96" y="0"/>
                  </a:moveTo>
                  <a:lnTo>
                    <a:pt x="0" y="96"/>
                  </a:lnTo>
                  <a:lnTo>
                    <a:pt x="48" y="96"/>
                  </a:lnTo>
                  <a:lnTo>
                    <a:pt x="192" y="48"/>
                  </a:lnTo>
                  <a:lnTo>
                    <a:pt x="9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8000">
    <p:cover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3687840" y="2362320"/>
          <a:ext cx="2332080" cy="42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7840" y="2362320"/>
                    <a:ext cx="2332080" cy="42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4449600" y="3278160"/>
            <a:ext cx="858960" cy="1665360"/>
          </a:xfrm>
          <a:custGeom>
            <a:avLst/>
            <a:gdLst/>
            <a:ahLst/>
            <a:rect l="l" t="t" r="r" b="b"/>
            <a:pathLst>
              <a:path w="541" h="1049">
                <a:moveTo>
                  <a:pt x="443" y="14"/>
                </a:moveTo>
                <a:lnTo>
                  <a:pt x="354" y="0"/>
                </a:lnTo>
                <a:lnTo>
                  <a:pt x="260" y="0"/>
                </a:lnTo>
                <a:lnTo>
                  <a:pt x="157" y="63"/>
                </a:lnTo>
                <a:lnTo>
                  <a:pt x="88" y="148"/>
                </a:lnTo>
                <a:lnTo>
                  <a:pt x="45" y="269"/>
                </a:lnTo>
                <a:lnTo>
                  <a:pt x="10" y="399"/>
                </a:lnTo>
                <a:lnTo>
                  <a:pt x="0" y="538"/>
                </a:lnTo>
                <a:lnTo>
                  <a:pt x="15" y="700"/>
                </a:lnTo>
                <a:lnTo>
                  <a:pt x="53" y="902"/>
                </a:lnTo>
                <a:lnTo>
                  <a:pt x="98" y="968"/>
                </a:lnTo>
                <a:lnTo>
                  <a:pt x="157" y="1035"/>
                </a:lnTo>
                <a:lnTo>
                  <a:pt x="222" y="1049"/>
                </a:lnTo>
                <a:lnTo>
                  <a:pt x="275" y="1035"/>
                </a:lnTo>
                <a:lnTo>
                  <a:pt x="324" y="1009"/>
                </a:lnTo>
                <a:lnTo>
                  <a:pt x="354" y="923"/>
                </a:lnTo>
                <a:lnTo>
                  <a:pt x="349" y="847"/>
                </a:lnTo>
                <a:lnTo>
                  <a:pt x="305" y="776"/>
                </a:lnTo>
                <a:lnTo>
                  <a:pt x="305" y="682"/>
                </a:lnTo>
                <a:lnTo>
                  <a:pt x="324" y="592"/>
                </a:lnTo>
                <a:lnTo>
                  <a:pt x="364" y="485"/>
                </a:lnTo>
                <a:lnTo>
                  <a:pt x="443" y="417"/>
                </a:lnTo>
                <a:lnTo>
                  <a:pt x="496" y="310"/>
                </a:lnTo>
                <a:lnTo>
                  <a:pt x="541" y="170"/>
                </a:lnTo>
                <a:lnTo>
                  <a:pt x="516" y="76"/>
                </a:lnTo>
                <a:lnTo>
                  <a:pt x="482" y="14"/>
                </a:lnTo>
                <a:lnTo>
                  <a:pt x="399" y="0"/>
                </a:lnTo>
                <a:lnTo>
                  <a:pt x="443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97560" y="3774960"/>
            <a:ext cx="291960" cy="749520"/>
          </a:xfrm>
          <a:custGeom>
            <a:avLst/>
            <a:gdLst>
              <a:gd name="textAreaLeft" fmla="*/ 66600 w 291960"/>
              <a:gd name="textAreaRight" fmla="*/ 225360 w 291960"/>
              <a:gd name="textAreaTop" fmla="*/ 171000 h 749520"/>
              <a:gd name="textAreaBottom" fmla="*/ 578520 h 74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8380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c5a5a"/>
                </a:solidFill>
                <a:latin typeface="Jester"/>
              </a:rPr>
              <a:t>You’re going to get h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05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Jester"/>
              </a:rPr>
              <a:t>The Problem With Dodging Bullets</a:t>
            </a:r>
            <a:endParaRPr b="0" lang="en-US" sz="4000" spc="-1" strike="noStrike">
              <a:solidFill>
                <a:srgbClr val="3333cc"/>
              </a:solidFill>
              <a:latin typeface="Jester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657600" y="4038480"/>
            <a:ext cx="1242720" cy="368280"/>
            <a:chOff x="3657600" y="4038480"/>
            <a:chExt cx="1242720" cy="368280"/>
          </a:xfrm>
        </p:grpSpPr>
        <p:sp>
          <p:nvSpPr>
            <p:cNvPr id="257" name=""/>
            <p:cNvSpPr/>
            <p:nvPr/>
          </p:nvSpPr>
          <p:spPr>
            <a:xfrm>
              <a:off x="4168440" y="4073400"/>
              <a:ext cx="73188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95400" y="4055760"/>
              <a:ext cx="851040" cy="333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57600" y="4038480"/>
              <a:ext cx="25200" cy="368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9144000" y="1676520"/>
            <a:ext cx="1242720" cy="368280"/>
            <a:chOff x="9144000" y="1676520"/>
            <a:chExt cx="1242720" cy="368280"/>
          </a:xfrm>
        </p:grpSpPr>
        <p:sp>
          <p:nvSpPr>
            <p:cNvPr id="261" name=""/>
            <p:cNvSpPr/>
            <p:nvPr/>
          </p:nvSpPr>
          <p:spPr>
            <a:xfrm>
              <a:off x="9654840" y="1711440"/>
              <a:ext cx="73188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181800" y="1693800"/>
              <a:ext cx="851040" cy="333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44000" y="1676520"/>
              <a:ext cx="25200" cy="368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9677520" y="6172200"/>
            <a:ext cx="1242360" cy="368280"/>
            <a:chOff x="9677520" y="6172200"/>
            <a:chExt cx="1242360" cy="368280"/>
          </a:xfrm>
        </p:grpSpPr>
        <p:sp>
          <p:nvSpPr>
            <p:cNvPr id="265" name=""/>
            <p:cNvSpPr/>
            <p:nvPr/>
          </p:nvSpPr>
          <p:spPr>
            <a:xfrm>
              <a:off x="10188360" y="6207120"/>
              <a:ext cx="7315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715320" y="6189480"/>
              <a:ext cx="850680" cy="333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677520" y="6172200"/>
              <a:ext cx="25200" cy="368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8000">
    <p:cover dir="r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9348840" y="2851200"/>
            <a:ext cx="1242720" cy="368280"/>
            <a:chOff x="9348840" y="2851200"/>
            <a:chExt cx="1242720" cy="368280"/>
          </a:xfrm>
        </p:grpSpPr>
        <p:sp>
          <p:nvSpPr>
            <p:cNvPr id="269" name=""/>
            <p:cNvSpPr/>
            <p:nvPr/>
          </p:nvSpPr>
          <p:spPr>
            <a:xfrm>
              <a:off x="9859680" y="2886120"/>
              <a:ext cx="73188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386640" y="2868480"/>
              <a:ext cx="851040" cy="333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348840" y="2851200"/>
              <a:ext cx="25200" cy="368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200400" y="2165400"/>
            <a:ext cx="1242720" cy="368280"/>
            <a:chOff x="3200400" y="2165400"/>
            <a:chExt cx="1242720" cy="368280"/>
          </a:xfrm>
        </p:grpSpPr>
        <p:sp>
          <p:nvSpPr>
            <p:cNvPr id="273" name=""/>
            <p:cNvSpPr/>
            <p:nvPr/>
          </p:nvSpPr>
          <p:spPr>
            <a:xfrm>
              <a:off x="3711240" y="2200320"/>
              <a:ext cx="73188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38200" y="2182680"/>
              <a:ext cx="851040" cy="333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00400" y="2165400"/>
              <a:ext cx="25200" cy="368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9372600" y="5365800"/>
            <a:ext cx="1243080" cy="368280"/>
            <a:chOff x="9372600" y="5365800"/>
            <a:chExt cx="1243080" cy="368280"/>
          </a:xfrm>
        </p:grpSpPr>
        <p:sp>
          <p:nvSpPr>
            <p:cNvPr id="277" name=""/>
            <p:cNvSpPr/>
            <p:nvPr/>
          </p:nvSpPr>
          <p:spPr>
            <a:xfrm>
              <a:off x="9883800" y="5400720"/>
              <a:ext cx="73188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410760" y="5383080"/>
              <a:ext cx="851040" cy="333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372600" y="5365800"/>
              <a:ext cx="25560" cy="368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925560" y="2895480"/>
            <a:ext cx="681120" cy="304920"/>
            <a:chOff x="925560" y="2895480"/>
            <a:chExt cx="681120" cy="304920"/>
          </a:xfrm>
        </p:grpSpPr>
        <p:sp>
          <p:nvSpPr>
            <p:cNvPr id="281" name=""/>
            <p:cNvSpPr/>
            <p:nvPr/>
          </p:nvSpPr>
          <p:spPr>
            <a:xfrm>
              <a:off x="1154160" y="3200400"/>
              <a:ext cx="3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25560" y="2895480"/>
              <a:ext cx="52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54160" y="312408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30480" y="3048120"/>
              <a:ext cx="3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010280" y="2209680"/>
            <a:ext cx="681120" cy="304920"/>
            <a:chOff x="7010280" y="2209680"/>
            <a:chExt cx="681120" cy="304920"/>
          </a:xfrm>
        </p:grpSpPr>
        <p:sp>
          <p:nvSpPr>
            <p:cNvPr id="286" name=""/>
            <p:cNvSpPr/>
            <p:nvPr/>
          </p:nvSpPr>
          <p:spPr>
            <a:xfrm>
              <a:off x="7238880" y="2209680"/>
              <a:ext cx="3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10280" y="2514600"/>
              <a:ext cx="52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38880" y="228600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15200" y="2362320"/>
              <a:ext cx="3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687680" y="5410080"/>
            <a:ext cx="680760" cy="304920"/>
            <a:chOff x="1687680" y="5410080"/>
            <a:chExt cx="680760" cy="304920"/>
          </a:xfrm>
        </p:grpSpPr>
        <p:sp>
          <p:nvSpPr>
            <p:cNvPr id="291" name=""/>
            <p:cNvSpPr/>
            <p:nvPr/>
          </p:nvSpPr>
          <p:spPr>
            <a:xfrm>
              <a:off x="1916280" y="5410080"/>
              <a:ext cx="3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87680" y="5715000"/>
              <a:ext cx="52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16280" y="5486400"/>
              <a:ext cx="22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92240" y="5562720"/>
              <a:ext cx="3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V="1">
            <a:off x="4422600" y="2087640"/>
            <a:ext cx="7164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4118040" y="2239920"/>
            <a:ext cx="22392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814920" y="2286000"/>
            <a:ext cx="7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135320" y="2341440"/>
            <a:ext cx="1763640" cy="4135320"/>
            <a:chOff x="4135320" y="2341440"/>
            <a:chExt cx="1763640" cy="4135320"/>
          </a:xfrm>
        </p:grpSpPr>
        <p:sp>
          <p:nvSpPr>
            <p:cNvPr id="299" name=""/>
            <p:cNvSpPr/>
            <p:nvPr/>
          </p:nvSpPr>
          <p:spPr>
            <a:xfrm>
              <a:off x="4446360" y="2341440"/>
              <a:ext cx="865080" cy="863640"/>
            </a:xfrm>
            <a:custGeom>
              <a:avLst/>
              <a:gdLst/>
              <a:ahLst/>
              <a:rect l="l" t="t" r="r" b="b"/>
              <a:pathLst>
                <a:path w="545" h="544">
                  <a:moveTo>
                    <a:pt x="355" y="157"/>
                  </a:moveTo>
                  <a:lnTo>
                    <a:pt x="289" y="55"/>
                  </a:lnTo>
                  <a:lnTo>
                    <a:pt x="221" y="0"/>
                  </a:lnTo>
                  <a:lnTo>
                    <a:pt x="141" y="0"/>
                  </a:lnTo>
                  <a:lnTo>
                    <a:pt x="53" y="35"/>
                  </a:lnTo>
                  <a:lnTo>
                    <a:pt x="13" y="95"/>
                  </a:lnTo>
                  <a:lnTo>
                    <a:pt x="0" y="177"/>
                  </a:lnTo>
                  <a:lnTo>
                    <a:pt x="13" y="286"/>
                  </a:lnTo>
                  <a:lnTo>
                    <a:pt x="66" y="408"/>
                  </a:lnTo>
                  <a:lnTo>
                    <a:pt x="161" y="489"/>
                  </a:lnTo>
                  <a:lnTo>
                    <a:pt x="234" y="529"/>
                  </a:lnTo>
                  <a:lnTo>
                    <a:pt x="309" y="543"/>
                  </a:lnTo>
                  <a:lnTo>
                    <a:pt x="368" y="523"/>
                  </a:lnTo>
                  <a:lnTo>
                    <a:pt x="402" y="489"/>
                  </a:lnTo>
                  <a:lnTo>
                    <a:pt x="423" y="408"/>
                  </a:lnTo>
                  <a:lnTo>
                    <a:pt x="416" y="312"/>
                  </a:lnTo>
                  <a:lnTo>
                    <a:pt x="395" y="232"/>
                  </a:lnTo>
                  <a:lnTo>
                    <a:pt x="530" y="157"/>
                  </a:lnTo>
                  <a:lnTo>
                    <a:pt x="544" y="123"/>
                  </a:lnTo>
                  <a:lnTo>
                    <a:pt x="530" y="109"/>
                  </a:lnTo>
                  <a:lnTo>
                    <a:pt x="382" y="197"/>
                  </a:lnTo>
                  <a:lnTo>
                    <a:pt x="355" y="1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35320" y="3300120"/>
              <a:ext cx="696960" cy="1163880"/>
            </a:xfrm>
            <a:custGeom>
              <a:avLst/>
              <a:gdLst/>
              <a:ahLst/>
              <a:rect l="l" t="t" r="r" b="b"/>
              <a:pathLst>
                <a:path w="439" h="733">
                  <a:moveTo>
                    <a:pt x="438" y="21"/>
                  </a:moveTo>
                  <a:lnTo>
                    <a:pt x="390" y="0"/>
                  </a:lnTo>
                  <a:lnTo>
                    <a:pt x="289" y="7"/>
                  </a:lnTo>
                  <a:lnTo>
                    <a:pt x="201" y="76"/>
                  </a:lnTo>
                  <a:lnTo>
                    <a:pt x="73" y="218"/>
                  </a:lnTo>
                  <a:lnTo>
                    <a:pt x="7" y="333"/>
                  </a:lnTo>
                  <a:lnTo>
                    <a:pt x="0" y="373"/>
                  </a:lnTo>
                  <a:lnTo>
                    <a:pt x="33" y="448"/>
                  </a:lnTo>
                  <a:lnTo>
                    <a:pt x="107" y="482"/>
                  </a:lnTo>
                  <a:lnTo>
                    <a:pt x="201" y="522"/>
                  </a:lnTo>
                  <a:lnTo>
                    <a:pt x="276" y="542"/>
                  </a:lnTo>
                  <a:lnTo>
                    <a:pt x="309" y="577"/>
                  </a:lnTo>
                  <a:lnTo>
                    <a:pt x="289" y="624"/>
                  </a:lnTo>
                  <a:lnTo>
                    <a:pt x="236" y="678"/>
                  </a:lnTo>
                  <a:lnTo>
                    <a:pt x="168" y="685"/>
                  </a:lnTo>
                  <a:lnTo>
                    <a:pt x="121" y="664"/>
                  </a:lnTo>
                  <a:lnTo>
                    <a:pt x="93" y="685"/>
                  </a:lnTo>
                  <a:lnTo>
                    <a:pt x="100" y="712"/>
                  </a:lnTo>
                  <a:lnTo>
                    <a:pt x="154" y="732"/>
                  </a:lnTo>
                  <a:lnTo>
                    <a:pt x="236" y="732"/>
                  </a:lnTo>
                  <a:lnTo>
                    <a:pt x="309" y="712"/>
                  </a:lnTo>
                  <a:lnTo>
                    <a:pt x="350" y="685"/>
                  </a:lnTo>
                  <a:lnTo>
                    <a:pt x="377" y="637"/>
                  </a:lnTo>
                  <a:lnTo>
                    <a:pt x="390" y="583"/>
                  </a:lnTo>
                  <a:lnTo>
                    <a:pt x="357" y="535"/>
                  </a:lnTo>
                  <a:lnTo>
                    <a:pt x="276" y="502"/>
                  </a:lnTo>
                  <a:lnTo>
                    <a:pt x="181" y="475"/>
                  </a:lnTo>
                  <a:lnTo>
                    <a:pt x="100" y="428"/>
                  </a:lnTo>
                  <a:lnTo>
                    <a:pt x="80" y="386"/>
                  </a:lnTo>
                  <a:lnTo>
                    <a:pt x="93" y="313"/>
                  </a:lnTo>
                  <a:lnTo>
                    <a:pt x="154" y="218"/>
                  </a:lnTo>
                  <a:lnTo>
                    <a:pt x="229" y="163"/>
                  </a:lnTo>
                  <a:lnTo>
                    <a:pt x="343" y="122"/>
                  </a:lnTo>
                  <a:lnTo>
                    <a:pt x="438" y="102"/>
                  </a:lnTo>
                  <a:lnTo>
                    <a:pt x="438" y="47"/>
                  </a:lnTo>
                  <a:lnTo>
                    <a:pt x="438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06840" y="4410000"/>
              <a:ext cx="496800" cy="2066760"/>
            </a:xfrm>
            <a:custGeom>
              <a:avLst/>
              <a:gdLst/>
              <a:ahLst/>
              <a:rect l="l" t="t" r="r" b="b"/>
              <a:pathLst>
                <a:path w="313" h="1302">
                  <a:moveTo>
                    <a:pt x="297" y="20"/>
                  </a:moveTo>
                  <a:lnTo>
                    <a:pt x="217" y="0"/>
                  </a:lnTo>
                  <a:lnTo>
                    <a:pt x="169" y="20"/>
                  </a:lnTo>
                  <a:lnTo>
                    <a:pt x="149" y="87"/>
                  </a:lnTo>
                  <a:lnTo>
                    <a:pt x="169" y="459"/>
                  </a:lnTo>
                  <a:lnTo>
                    <a:pt x="169" y="548"/>
                  </a:lnTo>
                  <a:lnTo>
                    <a:pt x="143" y="711"/>
                  </a:lnTo>
                  <a:lnTo>
                    <a:pt x="136" y="900"/>
                  </a:lnTo>
                  <a:lnTo>
                    <a:pt x="149" y="995"/>
                  </a:lnTo>
                  <a:lnTo>
                    <a:pt x="136" y="1049"/>
                  </a:lnTo>
                  <a:lnTo>
                    <a:pt x="42" y="1130"/>
                  </a:lnTo>
                  <a:lnTo>
                    <a:pt x="0" y="1232"/>
                  </a:lnTo>
                  <a:lnTo>
                    <a:pt x="8" y="1266"/>
                  </a:lnTo>
                  <a:lnTo>
                    <a:pt x="82" y="1301"/>
                  </a:lnTo>
                  <a:lnTo>
                    <a:pt x="101" y="1286"/>
                  </a:lnTo>
                  <a:lnTo>
                    <a:pt x="109" y="1226"/>
                  </a:lnTo>
                  <a:lnTo>
                    <a:pt x="129" y="1137"/>
                  </a:lnTo>
                  <a:lnTo>
                    <a:pt x="163" y="1097"/>
                  </a:lnTo>
                  <a:lnTo>
                    <a:pt x="203" y="1070"/>
                  </a:lnTo>
                  <a:lnTo>
                    <a:pt x="237" y="1035"/>
                  </a:lnTo>
                  <a:lnTo>
                    <a:pt x="244" y="1009"/>
                  </a:lnTo>
                  <a:lnTo>
                    <a:pt x="224" y="975"/>
                  </a:lnTo>
                  <a:lnTo>
                    <a:pt x="203" y="955"/>
                  </a:lnTo>
                  <a:lnTo>
                    <a:pt x="189" y="873"/>
                  </a:lnTo>
                  <a:lnTo>
                    <a:pt x="203" y="703"/>
                  </a:lnTo>
                  <a:lnTo>
                    <a:pt x="251" y="507"/>
                  </a:lnTo>
                  <a:lnTo>
                    <a:pt x="297" y="351"/>
                  </a:lnTo>
                  <a:lnTo>
                    <a:pt x="312" y="162"/>
                  </a:lnTo>
                  <a:lnTo>
                    <a:pt x="297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43240" y="4410000"/>
              <a:ext cx="814320" cy="1742760"/>
            </a:xfrm>
            <a:custGeom>
              <a:avLst/>
              <a:gdLst/>
              <a:ahLst/>
              <a:rect l="l" t="t" r="r" b="b"/>
              <a:pathLst>
                <a:path w="513" h="1098">
                  <a:moveTo>
                    <a:pt x="168" y="162"/>
                  </a:moveTo>
                  <a:lnTo>
                    <a:pt x="155" y="53"/>
                  </a:lnTo>
                  <a:lnTo>
                    <a:pt x="95" y="0"/>
                  </a:lnTo>
                  <a:lnTo>
                    <a:pt x="7" y="6"/>
                  </a:lnTo>
                  <a:lnTo>
                    <a:pt x="0" y="53"/>
                  </a:lnTo>
                  <a:lnTo>
                    <a:pt x="7" y="155"/>
                  </a:lnTo>
                  <a:lnTo>
                    <a:pt x="54" y="310"/>
                  </a:lnTo>
                  <a:lnTo>
                    <a:pt x="88" y="426"/>
                  </a:lnTo>
                  <a:lnTo>
                    <a:pt x="128" y="581"/>
                  </a:lnTo>
                  <a:lnTo>
                    <a:pt x="142" y="716"/>
                  </a:lnTo>
                  <a:lnTo>
                    <a:pt x="142" y="825"/>
                  </a:lnTo>
                  <a:lnTo>
                    <a:pt x="122" y="907"/>
                  </a:lnTo>
                  <a:lnTo>
                    <a:pt x="102" y="934"/>
                  </a:lnTo>
                  <a:lnTo>
                    <a:pt x="102" y="960"/>
                  </a:lnTo>
                  <a:lnTo>
                    <a:pt x="128" y="1002"/>
                  </a:lnTo>
                  <a:lnTo>
                    <a:pt x="175" y="1015"/>
                  </a:lnTo>
                  <a:lnTo>
                    <a:pt x="249" y="1015"/>
                  </a:lnTo>
                  <a:lnTo>
                    <a:pt x="384" y="1049"/>
                  </a:lnTo>
                  <a:lnTo>
                    <a:pt x="424" y="1097"/>
                  </a:lnTo>
                  <a:lnTo>
                    <a:pt x="485" y="1069"/>
                  </a:lnTo>
                  <a:lnTo>
                    <a:pt x="512" y="1002"/>
                  </a:lnTo>
                  <a:lnTo>
                    <a:pt x="485" y="975"/>
                  </a:lnTo>
                  <a:lnTo>
                    <a:pt x="371" y="960"/>
                  </a:lnTo>
                  <a:lnTo>
                    <a:pt x="243" y="960"/>
                  </a:lnTo>
                  <a:lnTo>
                    <a:pt x="188" y="954"/>
                  </a:lnTo>
                  <a:lnTo>
                    <a:pt x="175" y="913"/>
                  </a:lnTo>
                  <a:lnTo>
                    <a:pt x="188" y="838"/>
                  </a:lnTo>
                  <a:lnTo>
                    <a:pt x="196" y="710"/>
                  </a:lnTo>
                  <a:lnTo>
                    <a:pt x="182" y="568"/>
                  </a:lnTo>
                  <a:lnTo>
                    <a:pt x="162" y="379"/>
                  </a:lnTo>
                  <a:lnTo>
                    <a:pt x="168" y="215"/>
                  </a:lnTo>
                  <a:lnTo>
                    <a:pt x="168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01960" y="3247920"/>
              <a:ext cx="652680" cy="1430280"/>
            </a:xfrm>
            <a:custGeom>
              <a:avLst/>
              <a:gdLst/>
              <a:ahLst/>
              <a:rect l="l" t="t" r="r" b="b"/>
              <a:pathLst>
                <a:path w="411" h="901">
                  <a:moveTo>
                    <a:pt x="357" y="284"/>
                  </a:moveTo>
                  <a:lnTo>
                    <a:pt x="315" y="115"/>
                  </a:lnTo>
                  <a:lnTo>
                    <a:pt x="269" y="33"/>
                  </a:lnTo>
                  <a:lnTo>
                    <a:pt x="168" y="0"/>
                  </a:lnTo>
                  <a:lnTo>
                    <a:pt x="66" y="13"/>
                  </a:lnTo>
                  <a:lnTo>
                    <a:pt x="20" y="102"/>
                  </a:lnTo>
                  <a:lnTo>
                    <a:pt x="26" y="210"/>
                  </a:lnTo>
                  <a:lnTo>
                    <a:pt x="53" y="386"/>
                  </a:lnTo>
                  <a:lnTo>
                    <a:pt x="53" y="541"/>
                  </a:lnTo>
                  <a:lnTo>
                    <a:pt x="20" y="677"/>
                  </a:lnTo>
                  <a:lnTo>
                    <a:pt x="0" y="752"/>
                  </a:lnTo>
                  <a:lnTo>
                    <a:pt x="13" y="819"/>
                  </a:lnTo>
                  <a:lnTo>
                    <a:pt x="60" y="854"/>
                  </a:lnTo>
                  <a:lnTo>
                    <a:pt x="121" y="887"/>
                  </a:lnTo>
                  <a:lnTo>
                    <a:pt x="181" y="900"/>
                  </a:lnTo>
                  <a:lnTo>
                    <a:pt x="255" y="900"/>
                  </a:lnTo>
                  <a:lnTo>
                    <a:pt x="343" y="832"/>
                  </a:lnTo>
                  <a:lnTo>
                    <a:pt x="410" y="690"/>
                  </a:lnTo>
                  <a:lnTo>
                    <a:pt x="403" y="561"/>
                  </a:lnTo>
                  <a:lnTo>
                    <a:pt x="363" y="413"/>
                  </a:lnTo>
                  <a:lnTo>
                    <a:pt x="357" y="2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02000" y="3300120"/>
              <a:ext cx="696960" cy="1163880"/>
            </a:xfrm>
            <a:custGeom>
              <a:avLst/>
              <a:gdLst/>
              <a:ahLst/>
              <a:rect l="l" t="t" r="r" b="b"/>
              <a:pathLst>
                <a:path w="439" h="733">
                  <a:moveTo>
                    <a:pt x="0" y="21"/>
                  </a:moveTo>
                  <a:lnTo>
                    <a:pt x="48" y="0"/>
                  </a:lnTo>
                  <a:lnTo>
                    <a:pt x="149" y="7"/>
                  </a:lnTo>
                  <a:lnTo>
                    <a:pt x="237" y="76"/>
                  </a:lnTo>
                  <a:lnTo>
                    <a:pt x="365" y="218"/>
                  </a:lnTo>
                  <a:lnTo>
                    <a:pt x="431" y="333"/>
                  </a:lnTo>
                  <a:lnTo>
                    <a:pt x="438" y="373"/>
                  </a:lnTo>
                  <a:lnTo>
                    <a:pt x="405" y="448"/>
                  </a:lnTo>
                  <a:lnTo>
                    <a:pt x="331" y="482"/>
                  </a:lnTo>
                  <a:lnTo>
                    <a:pt x="237" y="522"/>
                  </a:lnTo>
                  <a:lnTo>
                    <a:pt x="162" y="542"/>
                  </a:lnTo>
                  <a:lnTo>
                    <a:pt x="129" y="577"/>
                  </a:lnTo>
                  <a:lnTo>
                    <a:pt x="149" y="624"/>
                  </a:lnTo>
                  <a:lnTo>
                    <a:pt x="202" y="678"/>
                  </a:lnTo>
                  <a:lnTo>
                    <a:pt x="270" y="685"/>
                  </a:lnTo>
                  <a:lnTo>
                    <a:pt x="317" y="664"/>
                  </a:lnTo>
                  <a:lnTo>
                    <a:pt x="345" y="685"/>
                  </a:lnTo>
                  <a:lnTo>
                    <a:pt x="338" y="712"/>
                  </a:lnTo>
                  <a:lnTo>
                    <a:pt x="284" y="732"/>
                  </a:lnTo>
                  <a:lnTo>
                    <a:pt x="202" y="732"/>
                  </a:lnTo>
                  <a:lnTo>
                    <a:pt x="129" y="712"/>
                  </a:lnTo>
                  <a:lnTo>
                    <a:pt x="88" y="685"/>
                  </a:lnTo>
                  <a:lnTo>
                    <a:pt x="61" y="637"/>
                  </a:lnTo>
                  <a:lnTo>
                    <a:pt x="48" y="583"/>
                  </a:lnTo>
                  <a:lnTo>
                    <a:pt x="81" y="535"/>
                  </a:lnTo>
                  <a:lnTo>
                    <a:pt x="162" y="502"/>
                  </a:lnTo>
                  <a:lnTo>
                    <a:pt x="257" y="475"/>
                  </a:lnTo>
                  <a:lnTo>
                    <a:pt x="338" y="428"/>
                  </a:lnTo>
                  <a:lnTo>
                    <a:pt x="358" y="386"/>
                  </a:lnTo>
                  <a:lnTo>
                    <a:pt x="345" y="313"/>
                  </a:lnTo>
                  <a:lnTo>
                    <a:pt x="284" y="218"/>
                  </a:lnTo>
                  <a:lnTo>
                    <a:pt x="209" y="163"/>
                  </a:lnTo>
                  <a:lnTo>
                    <a:pt x="95" y="122"/>
                  </a:lnTo>
                  <a:lnTo>
                    <a:pt x="0" y="102"/>
                  </a:lnTo>
                  <a:lnTo>
                    <a:pt x="0" y="47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 flipH="1" flipV="1">
            <a:off x="4269960" y="2087640"/>
            <a:ext cx="7164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395600" y="2290680"/>
            <a:ext cx="865080" cy="863280"/>
            <a:chOff x="4395600" y="2290680"/>
            <a:chExt cx="865080" cy="863280"/>
          </a:xfrm>
        </p:grpSpPr>
        <p:sp>
          <p:nvSpPr>
            <p:cNvPr id="307" name=""/>
            <p:cNvSpPr/>
            <p:nvPr/>
          </p:nvSpPr>
          <p:spPr>
            <a:xfrm>
              <a:off x="4395600" y="2290680"/>
              <a:ext cx="865080" cy="863280"/>
            </a:xfrm>
            <a:custGeom>
              <a:avLst/>
              <a:gdLst/>
              <a:ahLst/>
              <a:rect l="l" t="t" r="r" b="b"/>
              <a:pathLst>
                <a:path w="545" h="544">
                  <a:moveTo>
                    <a:pt x="355" y="157"/>
                  </a:moveTo>
                  <a:lnTo>
                    <a:pt x="289" y="55"/>
                  </a:lnTo>
                  <a:lnTo>
                    <a:pt x="221" y="0"/>
                  </a:lnTo>
                  <a:lnTo>
                    <a:pt x="141" y="0"/>
                  </a:lnTo>
                  <a:lnTo>
                    <a:pt x="53" y="35"/>
                  </a:lnTo>
                  <a:lnTo>
                    <a:pt x="13" y="95"/>
                  </a:lnTo>
                  <a:lnTo>
                    <a:pt x="0" y="177"/>
                  </a:lnTo>
                  <a:lnTo>
                    <a:pt x="13" y="286"/>
                  </a:lnTo>
                  <a:lnTo>
                    <a:pt x="66" y="408"/>
                  </a:lnTo>
                  <a:lnTo>
                    <a:pt x="161" y="489"/>
                  </a:lnTo>
                  <a:lnTo>
                    <a:pt x="234" y="529"/>
                  </a:lnTo>
                  <a:lnTo>
                    <a:pt x="309" y="543"/>
                  </a:lnTo>
                  <a:lnTo>
                    <a:pt x="368" y="523"/>
                  </a:lnTo>
                  <a:lnTo>
                    <a:pt x="402" y="489"/>
                  </a:lnTo>
                  <a:lnTo>
                    <a:pt x="423" y="408"/>
                  </a:lnTo>
                  <a:lnTo>
                    <a:pt x="416" y="312"/>
                  </a:lnTo>
                  <a:lnTo>
                    <a:pt x="395" y="232"/>
                  </a:lnTo>
                  <a:lnTo>
                    <a:pt x="530" y="157"/>
                  </a:lnTo>
                  <a:lnTo>
                    <a:pt x="544" y="123"/>
                  </a:lnTo>
                  <a:lnTo>
                    <a:pt x="530" y="109"/>
                  </a:lnTo>
                  <a:lnTo>
                    <a:pt x="382" y="197"/>
                  </a:lnTo>
                  <a:lnTo>
                    <a:pt x="355" y="157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Jester"/>
              </a:rPr>
              <a:t>The Environment</a:t>
            </a:r>
            <a:endParaRPr b="0" lang="en-US" sz="4000" spc="-1" strike="noStrike">
              <a:solidFill>
                <a:srgbClr val="3333cc"/>
              </a:solidFill>
              <a:latin typeface="Jester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280200" y="3951360"/>
            <a:ext cx="2452680" cy="1981440"/>
            <a:chOff x="6280200" y="3951360"/>
            <a:chExt cx="2452680" cy="1981440"/>
          </a:xfrm>
        </p:grpSpPr>
        <p:sp>
          <p:nvSpPr>
            <p:cNvPr id="63" name=""/>
            <p:cNvSpPr/>
            <p:nvPr/>
          </p:nvSpPr>
          <p:spPr>
            <a:xfrm rot="2040000">
              <a:off x="6345000" y="4295880"/>
              <a:ext cx="1438200" cy="672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040000">
              <a:off x="6891480" y="4702320"/>
              <a:ext cx="1668240" cy="7556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040000">
              <a:off x="8416440" y="5152680"/>
              <a:ext cx="68400" cy="8319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980000">
              <a:off x="6786000" y="4751280"/>
              <a:ext cx="1909440" cy="70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terminism The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63760" y="3952440"/>
            <a:ext cx="2455560" cy="1979640"/>
            <a:chOff x="563760" y="3952440"/>
            <a:chExt cx="2455560" cy="1979640"/>
          </a:xfrm>
        </p:grpSpPr>
        <p:sp>
          <p:nvSpPr>
            <p:cNvPr id="68" name=""/>
            <p:cNvSpPr/>
            <p:nvPr/>
          </p:nvSpPr>
          <p:spPr>
            <a:xfrm rot="19560000">
              <a:off x="1517760" y="4295520"/>
              <a:ext cx="1434960" cy="67608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560000">
              <a:off x="738000" y="4704840"/>
              <a:ext cx="1665000" cy="74952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9560000">
              <a:off x="814320" y="5157720"/>
              <a:ext cx="63720" cy="827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9560000">
              <a:off x="596880" y="4711320"/>
              <a:ext cx="1906560" cy="70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egative World 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258600" y="272880"/>
            <a:ext cx="2421360" cy="2008440"/>
            <a:chOff x="6258600" y="272880"/>
            <a:chExt cx="2421360" cy="2008440"/>
          </a:xfrm>
        </p:grpSpPr>
        <p:sp>
          <p:nvSpPr>
            <p:cNvPr id="73" name=""/>
            <p:cNvSpPr/>
            <p:nvPr/>
          </p:nvSpPr>
          <p:spPr>
            <a:xfrm rot="19500000">
              <a:off x="6321600" y="1257120"/>
              <a:ext cx="1436400" cy="67284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9500000">
              <a:off x="6862320" y="756720"/>
              <a:ext cx="1662120" cy="74952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9500000">
              <a:off x="8376840" y="217080"/>
              <a:ext cx="66600" cy="8254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500000">
              <a:off x="6745680" y="790200"/>
              <a:ext cx="1905120" cy="70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nging 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749680" y="1073160"/>
            <a:ext cx="3720960" cy="4330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67160" y="2095560"/>
            <a:ext cx="2286000" cy="2286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79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60800" y="2689200"/>
            <a:ext cx="1096920" cy="1096920"/>
          </a:xfrm>
          <a:prstGeom prst="ellipse">
            <a:avLst/>
          </a:prstGeom>
          <a:solidFill>
            <a:srgbClr val="e7f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Jester"/>
              </a:rPr>
              <a:t>YO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5638680"/>
            <a:ext cx="525780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ware the Bullet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38240" y="2825640"/>
            <a:ext cx="2446200" cy="825480"/>
            <a:chOff x="138240" y="2825640"/>
            <a:chExt cx="2446200" cy="825480"/>
          </a:xfrm>
        </p:grpSpPr>
        <p:sp>
          <p:nvSpPr>
            <p:cNvPr id="82" name=""/>
            <p:cNvSpPr/>
            <p:nvPr/>
          </p:nvSpPr>
          <p:spPr>
            <a:xfrm>
              <a:off x="1149480" y="2901960"/>
              <a:ext cx="1434960" cy="67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5080" y="2863800"/>
              <a:ext cx="1663560" cy="7495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8760" y="2825640"/>
              <a:ext cx="63360" cy="8254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8240" y="2908440"/>
              <a:ext cx="2109600" cy="70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egative Work 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610320" y="2825640"/>
            <a:ext cx="2482920" cy="825480"/>
            <a:chOff x="6610320" y="2825640"/>
            <a:chExt cx="2482920" cy="825480"/>
          </a:xfrm>
        </p:grpSpPr>
        <p:sp>
          <p:nvSpPr>
            <p:cNvPr id="87" name=""/>
            <p:cNvSpPr/>
            <p:nvPr/>
          </p:nvSpPr>
          <p:spPr>
            <a:xfrm>
              <a:off x="6610320" y="2901960"/>
              <a:ext cx="1434960" cy="67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96120" y="2863800"/>
              <a:ext cx="1663560" cy="7495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972640" y="2825640"/>
              <a:ext cx="63360" cy="8254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86680" y="2895480"/>
              <a:ext cx="1906560" cy="70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st Exper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06160" y="239400"/>
            <a:ext cx="2529720" cy="2029320"/>
            <a:chOff x="506160" y="239400"/>
            <a:chExt cx="2529720" cy="2029320"/>
          </a:xfrm>
        </p:grpSpPr>
        <p:sp>
          <p:nvSpPr>
            <p:cNvPr id="92" name=""/>
            <p:cNvSpPr/>
            <p:nvPr/>
          </p:nvSpPr>
          <p:spPr>
            <a:xfrm rot="2040000">
              <a:off x="1522440" y="1249200"/>
              <a:ext cx="1449360" cy="67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040000">
              <a:off x="739800" y="762120"/>
              <a:ext cx="1677960" cy="7524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40000">
              <a:off x="813960" y="235080"/>
              <a:ext cx="65160" cy="8254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040000">
              <a:off x="501120" y="838080"/>
              <a:ext cx="2356200" cy="70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ther People’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ehavi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470400" y="2427120"/>
            <a:ext cx="2320920" cy="1611360"/>
            <a:chOff x="3470400" y="2427120"/>
            <a:chExt cx="2320920" cy="1611360"/>
          </a:xfrm>
        </p:grpSpPr>
        <p:graphicFrame>
          <p:nvGraphicFramePr>
            <p:cNvPr id="97" name=""/>
            <p:cNvGraphicFramePr/>
            <p:nvPr/>
          </p:nvGraphicFramePr>
          <p:xfrm>
            <a:off x="3470400" y="2427120"/>
            <a:ext cx="2320920" cy="161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70400" y="2427120"/>
                      <a:ext cx="232092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4115160" y="2857320"/>
              <a:ext cx="992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uch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8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3000" y="1905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g eat dog . . . everyone fighting to get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o one appreciates your contrib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oo much work . . . not enough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Deadlines are unreal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Longer hours . . .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Budget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ompetition is eating us 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Poor management /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Job in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579760" y="311040"/>
            <a:ext cx="4583160" cy="1206720"/>
            <a:chOff x="2579760" y="311040"/>
            <a:chExt cx="4583160" cy="1206720"/>
          </a:xfrm>
        </p:grpSpPr>
        <p:sp>
          <p:nvSpPr>
            <p:cNvPr id="102" name=""/>
            <p:cNvSpPr/>
            <p:nvPr/>
          </p:nvSpPr>
          <p:spPr>
            <a:xfrm>
              <a:off x="4603680" y="422280"/>
              <a:ext cx="2559240" cy="9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8280" y="365040"/>
              <a:ext cx="2965320" cy="1098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43280" y="311040"/>
              <a:ext cx="122040" cy="120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79760" y="433440"/>
              <a:ext cx="3749760" cy="94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egative Work Environm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6324480" y="3048120"/>
          <a:ext cx="2503440" cy="32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048120"/>
                    <a:ext cx="2503440" cy="32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8000"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0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2843280" y="311040"/>
            <a:ext cx="4319640" cy="1206720"/>
            <a:chOff x="2843280" y="311040"/>
            <a:chExt cx="4319640" cy="1206720"/>
          </a:xfrm>
        </p:grpSpPr>
        <p:sp>
          <p:nvSpPr>
            <p:cNvPr id="109" name=""/>
            <p:cNvSpPr/>
            <p:nvPr/>
          </p:nvSpPr>
          <p:spPr>
            <a:xfrm>
              <a:off x="4603680" y="422280"/>
              <a:ext cx="2559240" cy="9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8280" y="365040"/>
              <a:ext cx="2965320" cy="1098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43280" y="311040"/>
              <a:ext cx="122040" cy="120672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8280" y="433440"/>
              <a:ext cx="2971800" cy="94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Other People’s Behavi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85800" y="2057400"/>
            <a:ext cx="2895480" cy="609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cc"/>
                </a:solidFill>
                <a:latin typeface="Bazooka"/>
              </a:rPr>
              <a:t>Bulldo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3581280"/>
            <a:ext cx="1981440" cy="6098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mericana XBdCn BT"/>
              </a:rPr>
              <a:t>Snip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5638680"/>
            <a:ext cx="220968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ff22"/>
                </a:solidFill>
                <a:latin typeface="Bremen Bd BT"/>
              </a:rPr>
              <a:t>Explo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419720"/>
            <a:ext cx="19810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Lucida Sans Unicode"/>
              </a:rPr>
              <a:t>Cl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97180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Patron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213372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Compl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457200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DomBold BT"/>
              </a:rPr>
              <a:t>Control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8098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Busorama Md BT"/>
              </a:rPr>
              <a:t>Backstab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4648320"/>
            <a:ext cx="3276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0e02"/>
                </a:solidFill>
                <a:latin typeface="Garamond"/>
              </a:rPr>
              <a:t>Walking Wou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8195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usorama Md BT"/>
              </a:rPr>
              <a:t>Neg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1676520"/>
            <a:ext cx="19810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99"/>
                </a:solidFill>
                <a:latin typeface="Bremen Bd BT"/>
              </a:rPr>
              <a:t>Goss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54864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Lithograph"/>
              </a:rPr>
              <a:t>Brown No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5410080"/>
            <a:ext cx="1828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04ca"/>
                </a:solidFill>
                <a:latin typeface="AdLib BT"/>
              </a:rPr>
              <a:t>Sluf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29718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DomBold BT"/>
              </a:rPr>
              <a:t>Wh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752480" y="2286000"/>
            <a:ext cx="7083720" cy="4168800"/>
            <a:chOff x="1752480" y="2286000"/>
            <a:chExt cx="7083720" cy="41688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1752480" y="2286000"/>
              <a:ext cx="7083720" cy="416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29" name=""/>
            <p:cNvSpPr/>
            <p:nvPr/>
          </p:nvSpPr>
          <p:spPr>
            <a:xfrm>
              <a:off x="2286000" y="2438640"/>
              <a:ext cx="4911840" cy="685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74680" rIns="274680" tIns="136440" bIns="13644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HANGE . . .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286000" y="2971800"/>
            <a:ext cx="4911840" cy="319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4680" rIns="274680" tIns="136440" bIns="13644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s our paradig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s the way we th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life more difficult for a w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n ongoing fact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90920" y="311040"/>
            <a:ext cx="4572000" cy="1206720"/>
            <a:chOff x="2590920" y="311040"/>
            <a:chExt cx="4572000" cy="1206720"/>
          </a:xfrm>
        </p:grpSpPr>
        <p:sp>
          <p:nvSpPr>
            <p:cNvPr id="132" name=""/>
            <p:cNvSpPr/>
            <p:nvPr/>
          </p:nvSpPr>
          <p:spPr>
            <a:xfrm>
              <a:off x="4603680" y="422280"/>
              <a:ext cx="2559240" cy="9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78280" y="365040"/>
              <a:ext cx="2965320" cy="1098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43280" y="311040"/>
              <a:ext cx="122040" cy="120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0920" y="446040"/>
              <a:ext cx="3724200" cy="94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hanging Environm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57200" y="16002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only person who 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kes change is a wet bab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hecker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590920" y="311040"/>
            <a:ext cx="4319640" cy="1206720"/>
            <a:chOff x="2590920" y="311040"/>
            <a:chExt cx="4319640" cy="1206720"/>
          </a:xfrm>
        </p:grpSpPr>
        <p:sp>
          <p:nvSpPr>
            <p:cNvPr id="138" name=""/>
            <p:cNvSpPr/>
            <p:nvPr/>
          </p:nvSpPr>
          <p:spPr>
            <a:xfrm>
              <a:off x="4351320" y="422280"/>
              <a:ext cx="2559240" cy="9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25920" y="365040"/>
              <a:ext cx="2965320" cy="1098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90920" y="311040"/>
              <a:ext cx="122040" cy="120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01880" y="433440"/>
              <a:ext cx="2895840" cy="94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ast Experi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85800" y="4489560"/>
            <a:ext cx="1716120" cy="1730160"/>
            <a:chOff x="685800" y="4489560"/>
            <a:chExt cx="1716120" cy="1730160"/>
          </a:xfrm>
        </p:grpSpPr>
        <p:graphicFrame>
          <p:nvGraphicFramePr>
            <p:cNvPr id="143" name=""/>
            <p:cNvGraphicFramePr/>
            <p:nvPr/>
          </p:nvGraphicFramePr>
          <p:xfrm>
            <a:off x="839880" y="4489560"/>
            <a:ext cx="1562040" cy="1730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9880" y="4489560"/>
                      <a:ext cx="1562040" cy="17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" name=""/>
            <p:cNvSpPr/>
            <p:nvPr/>
          </p:nvSpPr>
          <p:spPr>
            <a:xfrm>
              <a:off x="685800" y="4572000"/>
              <a:ext cx="992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uch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919080" y="2236680"/>
            <a:ext cx="2320920" cy="1611360"/>
            <a:chOff x="919080" y="2236680"/>
            <a:chExt cx="2320920" cy="1611360"/>
          </a:xfrm>
        </p:grpSpPr>
        <p:graphicFrame>
          <p:nvGraphicFramePr>
            <p:cNvPr id="147" name=""/>
            <p:cNvGraphicFramePr/>
            <p:nvPr/>
          </p:nvGraphicFramePr>
          <p:xfrm>
            <a:off x="919080" y="2236680"/>
            <a:ext cx="2320920" cy="161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19080" y="2236680"/>
                      <a:ext cx="232092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1563840" y="2666880"/>
              <a:ext cx="992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uch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375240" y="528480"/>
            <a:ext cx="1931760" cy="2901600"/>
            <a:chOff x="6375240" y="528480"/>
            <a:chExt cx="1931760" cy="2901600"/>
          </a:xfrm>
        </p:grpSpPr>
        <p:sp>
          <p:nvSpPr>
            <p:cNvPr id="151" name=""/>
            <p:cNvSpPr/>
            <p:nvPr/>
          </p:nvSpPr>
          <p:spPr>
            <a:xfrm>
              <a:off x="7124400" y="2971800"/>
              <a:ext cx="992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uch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8720" y="2629080"/>
              <a:ext cx="992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uch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75240" y="2286000"/>
              <a:ext cx="992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uch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7030800" y="528480"/>
            <a:ext cx="1276200" cy="217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30800" y="528480"/>
                      <a:ext cx="1276200" cy="217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6" name=""/>
          <p:cNvGrpSpPr/>
          <p:nvPr/>
        </p:nvGrpSpPr>
        <p:grpSpPr>
          <a:xfrm>
            <a:off x="866880" y="376200"/>
            <a:ext cx="1458360" cy="1490760"/>
            <a:chOff x="866880" y="376200"/>
            <a:chExt cx="1458360" cy="1490760"/>
          </a:xfrm>
        </p:grpSpPr>
        <p:sp>
          <p:nvSpPr>
            <p:cNvPr id="157" name=""/>
            <p:cNvSpPr/>
            <p:nvPr/>
          </p:nvSpPr>
          <p:spPr>
            <a:xfrm>
              <a:off x="1333440" y="762120"/>
              <a:ext cx="991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uch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8" name=""/>
            <p:cNvGraphicFramePr/>
            <p:nvPr/>
          </p:nvGraphicFramePr>
          <p:xfrm>
            <a:off x="866880" y="376200"/>
            <a:ext cx="731520" cy="1490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66880" y="376200"/>
                      <a:ext cx="731520" cy="149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"/>
          <p:cNvGrpSpPr/>
          <p:nvPr/>
        </p:nvGrpSpPr>
        <p:grpSpPr>
          <a:xfrm>
            <a:off x="4035600" y="1573200"/>
            <a:ext cx="2176200" cy="2237760"/>
            <a:chOff x="4035600" y="1573200"/>
            <a:chExt cx="2176200" cy="2237760"/>
          </a:xfrm>
        </p:grpSpPr>
        <p:sp>
          <p:nvSpPr>
            <p:cNvPr id="161" name=""/>
            <p:cNvSpPr/>
            <p:nvPr/>
          </p:nvSpPr>
          <p:spPr>
            <a:xfrm>
              <a:off x="4572000" y="3352680"/>
              <a:ext cx="991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uch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4035600" y="1573200"/>
            <a:ext cx="2176200" cy="1665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35600" y="1573200"/>
                      <a:ext cx="217620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4" name=""/>
          <p:cNvGrpSpPr/>
          <p:nvPr/>
        </p:nvGrpSpPr>
        <p:grpSpPr>
          <a:xfrm>
            <a:off x="3060720" y="4143240"/>
            <a:ext cx="2160720" cy="2182320"/>
            <a:chOff x="3060720" y="4143240"/>
            <a:chExt cx="2160720" cy="2182320"/>
          </a:xfrm>
        </p:grpSpPr>
        <p:grpSp>
          <p:nvGrpSpPr>
            <p:cNvPr id="165" name=""/>
            <p:cNvGrpSpPr/>
            <p:nvPr/>
          </p:nvGrpSpPr>
          <p:grpSpPr>
            <a:xfrm>
              <a:off x="3284640" y="4302000"/>
              <a:ext cx="287280" cy="304920"/>
              <a:chOff x="3284640" y="4302000"/>
              <a:chExt cx="287280" cy="304920"/>
            </a:xfrm>
          </p:grpSpPr>
          <p:sp>
            <p:nvSpPr>
              <p:cNvPr id="166" name=""/>
              <p:cNvSpPr/>
              <p:nvPr/>
            </p:nvSpPr>
            <p:spPr>
              <a:xfrm>
                <a:off x="3284640" y="4443480"/>
                <a:ext cx="227160" cy="163440"/>
              </a:xfrm>
              <a:custGeom>
                <a:avLst/>
                <a:gdLst/>
                <a:ahLst/>
                <a:rect l="l" t="t" r="r" b="b"/>
                <a:pathLst>
                  <a:path w="143" h="103">
                    <a:moveTo>
                      <a:pt x="142" y="102"/>
                    </a:moveTo>
                    <a:lnTo>
                      <a:pt x="121" y="76"/>
                    </a:lnTo>
                    <a:lnTo>
                      <a:pt x="77" y="46"/>
                    </a:lnTo>
                    <a:lnTo>
                      <a:pt x="30" y="1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25" y="46"/>
                    </a:lnTo>
                    <a:lnTo>
                      <a:pt x="48" y="47"/>
                    </a:lnTo>
                    <a:lnTo>
                      <a:pt x="87" y="65"/>
                    </a:lnTo>
                    <a:lnTo>
                      <a:pt x="126" y="95"/>
                    </a:lnTo>
                    <a:lnTo>
                      <a:pt x="142" y="10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4480" y="4302000"/>
                <a:ext cx="217440" cy="169920"/>
              </a:xfrm>
              <a:custGeom>
                <a:avLst/>
                <a:gdLst/>
                <a:ahLst/>
                <a:rect l="l" t="t" r="r" b="b"/>
                <a:pathLst>
                  <a:path w="137" h="107">
                    <a:moveTo>
                      <a:pt x="121" y="98"/>
                    </a:moveTo>
                    <a:lnTo>
                      <a:pt x="82" y="68"/>
                    </a:lnTo>
                    <a:lnTo>
                      <a:pt x="46" y="44"/>
                    </a:lnTo>
                    <a:lnTo>
                      <a:pt x="22" y="38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34" y="20"/>
                    </a:lnTo>
                    <a:lnTo>
                      <a:pt x="136" y="92"/>
                    </a:lnTo>
                    <a:lnTo>
                      <a:pt x="132" y="106"/>
                    </a:lnTo>
                    <a:lnTo>
                      <a:pt x="121" y="9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060720" y="4143240"/>
              <a:ext cx="2160720" cy="2182320"/>
              <a:chOff x="3060720" y="4143240"/>
              <a:chExt cx="2160720" cy="218232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3943440" y="4143240"/>
                <a:ext cx="1278000" cy="1573200"/>
                <a:chOff x="3943440" y="4143240"/>
                <a:chExt cx="1278000" cy="15732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259520" y="4143240"/>
                  <a:ext cx="433440" cy="354240"/>
                </a:xfrm>
                <a:custGeom>
                  <a:avLst/>
                  <a:gdLst/>
                  <a:ahLst/>
                  <a:rect l="l" t="t" r="r" b="b"/>
                  <a:pathLst>
                    <a:path w="273" h="223">
                      <a:moveTo>
                        <a:pt x="82" y="139"/>
                      </a:moveTo>
                      <a:lnTo>
                        <a:pt x="67" y="108"/>
                      </a:lnTo>
                      <a:lnTo>
                        <a:pt x="54" y="73"/>
                      </a:lnTo>
                      <a:lnTo>
                        <a:pt x="57" y="40"/>
                      </a:lnTo>
                      <a:lnTo>
                        <a:pt x="67" y="14"/>
                      </a:lnTo>
                      <a:lnTo>
                        <a:pt x="94" y="4"/>
                      </a:lnTo>
                      <a:lnTo>
                        <a:pt x="136" y="0"/>
                      </a:lnTo>
                      <a:lnTo>
                        <a:pt x="185" y="25"/>
                      </a:lnTo>
                      <a:lnTo>
                        <a:pt x="221" y="63"/>
                      </a:lnTo>
                      <a:lnTo>
                        <a:pt x="245" y="96"/>
                      </a:lnTo>
                      <a:lnTo>
                        <a:pt x="263" y="144"/>
                      </a:lnTo>
                      <a:lnTo>
                        <a:pt x="272" y="186"/>
                      </a:lnTo>
                      <a:lnTo>
                        <a:pt x="250" y="211"/>
                      </a:lnTo>
                      <a:lnTo>
                        <a:pt x="225" y="222"/>
                      </a:lnTo>
                      <a:lnTo>
                        <a:pt x="190" y="220"/>
                      </a:lnTo>
                      <a:lnTo>
                        <a:pt x="147" y="192"/>
                      </a:lnTo>
                      <a:lnTo>
                        <a:pt x="113" y="171"/>
                      </a:lnTo>
                      <a:lnTo>
                        <a:pt x="99" y="156"/>
                      </a:lnTo>
                      <a:lnTo>
                        <a:pt x="16" y="189"/>
                      </a:lnTo>
                      <a:lnTo>
                        <a:pt x="0" y="181"/>
                      </a:lnTo>
                      <a:lnTo>
                        <a:pt x="8" y="166"/>
                      </a:lnTo>
                      <a:lnTo>
                        <a:pt x="82" y="13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594320" y="4498920"/>
                  <a:ext cx="336600" cy="657360"/>
                </a:xfrm>
                <a:custGeom>
                  <a:avLst/>
                  <a:gdLst/>
                  <a:ahLst/>
                  <a:rect l="l" t="t" r="r" b="b"/>
                  <a:pathLst>
                    <a:path w="212" h="414">
                      <a:moveTo>
                        <a:pt x="23" y="17"/>
                      </a:moveTo>
                      <a:lnTo>
                        <a:pt x="32" y="7"/>
                      </a:lnTo>
                      <a:lnTo>
                        <a:pt x="51" y="0"/>
                      </a:lnTo>
                      <a:lnTo>
                        <a:pt x="89" y="8"/>
                      </a:lnTo>
                      <a:lnTo>
                        <a:pt x="127" y="38"/>
                      </a:lnTo>
                      <a:lnTo>
                        <a:pt x="163" y="74"/>
                      </a:lnTo>
                      <a:lnTo>
                        <a:pt x="192" y="137"/>
                      </a:lnTo>
                      <a:lnTo>
                        <a:pt x="207" y="198"/>
                      </a:lnTo>
                      <a:lnTo>
                        <a:pt x="211" y="251"/>
                      </a:lnTo>
                      <a:lnTo>
                        <a:pt x="211" y="310"/>
                      </a:lnTo>
                      <a:lnTo>
                        <a:pt x="196" y="356"/>
                      </a:lnTo>
                      <a:lnTo>
                        <a:pt x="155" y="394"/>
                      </a:lnTo>
                      <a:lnTo>
                        <a:pt x="111" y="411"/>
                      </a:lnTo>
                      <a:lnTo>
                        <a:pt x="64" y="413"/>
                      </a:lnTo>
                      <a:lnTo>
                        <a:pt x="27" y="394"/>
                      </a:lnTo>
                      <a:lnTo>
                        <a:pt x="31" y="364"/>
                      </a:lnTo>
                      <a:lnTo>
                        <a:pt x="46" y="320"/>
                      </a:lnTo>
                      <a:lnTo>
                        <a:pt x="64" y="294"/>
                      </a:lnTo>
                      <a:lnTo>
                        <a:pt x="73" y="252"/>
                      </a:lnTo>
                      <a:lnTo>
                        <a:pt x="65" y="210"/>
                      </a:lnTo>
                      <a:lnTo>
                        <a:pt x="50" y="164"/>
                      </a:lnTo>
                      <a:lnTo>
                        <a:pt x="26" y="129"/>
                      </a:lnTo>
                      <a:lnTo>
                        <a:pt x="2" y="83"/>
                      </a:lnTo>
                      <a:lnTo>
                        <a:pt x="0" y="49"/>
                      </a:lnTo>
                      <a:lnTo>
                        <a:pt x="23" y="1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078440" y="4998960"/>
                  <a:ext cx="684360" cy="446040"/>
                </a:xfrm>
                <a:custGeom>
                  <a:avLst/>
                  <a:gdLst/>
                  <a:ahLst/>
                  <a:rect l="l" t="t" r="r" b="b"/>
                  <a:pathLst>
                    <a:path w="431" h="281">
                      <a:moveTo>
                        <a:pt x="387" y="15"/>
                      </a:moveTo>
                      <a:lnTo>
                        <a:pt x="409" y="15"/>
                      </a:lnTo>
                      <a:lnTo>
                        <a:pt x="426" y="29"/>
                      </a:lnTo>
                      <a:lnTo>
                        <a:pt x="430" y="52"/>
                      </a:lnTo>
                      <a:lnTo>
                        <a:pt x="426" y="64"/>
                      </a:lnTo>
                      <a:lnTo>
                        <a:pt x="413" y="88"/>
                      </a:lnTo>
                      <a:lnTo>
                        <a:pt x="382" y="104"/>
                      </a:lnTo>
                      <a:lnTo>
                        <a:pt x="347" y="110"/>
                      </a:lnTo>
                      <a:lnTo>
                        <a:pt x="281" y="93"/>
                      </a:lnTo>
                      <a:lnTo>
                        <a:pt x="203" y="65"/>
                      </a:lnTo>
                      <a:lnTo>
                        <a:pt x="150" y="39"/>
                      </a:lnTo>
                      <a:lnTo>
                        <a:pt x="129" y="34"/>
                      </a:lnTo>
                      <a:lnTo>
                        <a:pt x="132" y="48"/>
                      </a:lnTo>
                      <a:lnTo>
                        <a:pt x="168" y="110"/>
                      </a:lnTo>
                      <a:lnTo>
                        <a:pt x="198" y="164"/>
                      </a:lnTo>
                      <a:lnTo>
                        <a:pt x="212" y="201"/>
                      </a:lnTo>
                      <a:lnTo>
                        <a:pt x="217" y="240"/>
                      </a:lnTo>
                      <a:lnTo>
                        <a:pt x="217" y="258"/>
                      </a:lnTo>
                      <a:lnTo>
                        <a:pt x="212" y="272"/>
                      </a:lnTo>
                      <a:lnTo>
                        <a:pt x="199" y="280"/>
                      </a:lnTo>
                      <a:lnTo>
                        <a:pt x="173" y="280"/>
                      </a:lnTo>
                      <a:lnTo>
                        <a:pt x="143" y="258"/>
                      </a:lnTo>
                      <a:lnTo>
                        <a:pt x="105" y="243"/>
                      </a:lnTo>
                      <a:lnTo>
                        <a:pt x="57" y="232"/>
                      </a:lnTo>
                      <a:lnTo>
                        <a:pt x="21" y="219"/>
                      </a:lnTo>
                      <a:lnTo>
                        <a:pt x="0" y="220"/>
                      </a:lnTo>
                      <a:lnTo>
                        <a:pt x="0" y="201"/>
                      </a:lnTo>
                      <a:lnTo>
                        <a:pt x="21" y="169"/>
                      </a:lnTo>
                      <a:lnTo>
                        <a:pt x="53" y="153"/>
                      </a:lnTo>
                      <a:lnTo>
                        <a:pt x="81" y="163"/>
                      </a:lnTo>
                      <a:lnTo>
                        <a:pt x="109" y="184"/>
                      </a:lnTo>
                      <a:lnTo>
                        <a:pt x="143" y="209"/>
                      </a:lnTo>
                      <a:lnTo>
                        <a:pt x="152" y="223"/>
                      </a:lnTo>
                      <a:lnTo>
                        <a:pt x="173" y="247"/>
                      </a:lnTo>
                      <a:lnTo>
                        <a:pt x="189" y="240"/>
                      </a:lnTo>
                      <a:lnTo>
                        <a:pt x="188" y="203"/>
                      </a:lnTo>
                      <a:lnTo>
                        <a:pt x="168" y="168"/>
                      </a:lnTo>
                      <a:lnTo>
                        <a:pt x="144" y="130"/>
                      </a:lnTo>
                      <a:lnTo>
                        <a:pt x="129" y="98"/>
                      </a:lnTo>
                      <a:lnTo>
                        <a:pt x="93" y="41"/>
                      </a:lnTo>
                      <a:lnTo>
                        <a:pt x="94" y="18"/>
                      </a:lnTo>
                      <a:lnTo>
                        <a:pt x="119" y="1"/>
                      </a:lnTo>
                      <a:lnTo>
                        <a:pt x="159" y="0"/>
                      </a:lnTo>
                      <a:lnTo>
                        <a:pt x="193" y="18"/>
                      </a:lnTo>
                      <a:lnTo>
                        <a:pt x="277" y="40"/>
                      </a:lnTo>
                      <a:lnTo>
                        <a:pt x="314" y="43"/>
                      </a:lnTo>
                      <a:lnTo>
                        <a:pt x="338" y="36"/>
                      </a:lnTo>
                      <a:lnTo>
                        <a:pt x="366" y="23"/>
                      </a:lnTo>
                      <a:lnTo>
                        <a:pt x="387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712040" y="4506840"/>
                  <a:ext cx="509400" cy="289080"/>
                </a:xfrm>
                <a:custGeom>
                  <a:avLst/>
                  <a:gdLst/>
                  <a:ahLst/>
                  <a:rect l="l" t="t" r="r" b="b"/>
                  <a:pathLst>
                    <a:path w="321" h="182">
                      <a:moveTo>
                        <a:pt x="1" y="9"/>
                      </a:moveTo>
                      <a:lnTo>
                        <a:pt x="56" y="0"/>
                      </a:lnTo>
                      <a:lnTo>
                        <a:pt x="133" y="5"/>
                      </a:lnTo>
                      <a:lnTo>
                        <a:pt x="235" y="18"/>
                      </a:lnTo>
                      <a:lnTo>
                        <a:pt x="296" y="50"/>
                      </a:lnTo>
                      <a:lnTo>
                        <a:pt x="320" y="73"/>
                      </a:lnTo>
                      <a:lnTo>
                        <a:pt x="320" y="92"/>
                      </a:lnTo>
                      <a:lnTo>
                        <a:pt x="302" y="106"/>
                      </a:lnTo>
                      <a:lnTo>
                        <a:pt x="269" y="136"/>
                      </a:lnTo>
                      <a:lnTo>
                        <a:pt x="216" y="172"/>
                      </a:lnTo>
                      <a:lnTo>
                        <a:pt x="183" y="181"/>
                      </a:lnTo>
                      <a:lnTo>
                        <a:pt x="147" y="181"/>
                      </a:lnTo>
                      <a:lnTo>
                        <a:pt x="141" y="165"/>
                      </a:lnTo>
                      <a:lnTo>
                        <a:pt x="152" y="143"/>
                      </a:lnTo>
                      <a:lnTo>
                        <a:pt x="175" y="132"/>
                      </a:lnTo>
                      <a:lnTo>
                        <a:pt x="190" y="136"/>
                      </a:lnTo>
                      <a:lnTo>
                        <a:pt x="192" y="151"/>
                      </a:lnTo>
                      <a:lnTo>
                        <a:pt x="216" y="153"/>
                      </a:lnTo>
                      <a:lnTo>
                        <a:pt x="255" y="126"/>
                      </a:lnTo>
                      <a:lnTo>
                        <a:pt x="283" y="96"/>
                      </a:lnTo>
                      <a:lnTo>
                        <a:pt x="283" y="77"/>
                      </a:lnTo>
                      <a:lnTo>
                        <a:pt x="273" y="67"/>
                      </a:lnTo>
                      <a:lnTo>
                        <a:pt x="230" y="50"/>
                      </a:lnTo>
                      <a:lnTo>
                        <a:pt x="152" y="37"/>
                      </a:lnTo>
                      <a:lnTo>
                        <a:pt x="103" y="37"/>
                      </a:lnTo>
                      <a:lnTo>
                        <a:pt x="76" y="39"/>
                      </a:lnTo>
                      <a:lnTo>
                        <a:pt x="37" y="47"/>
                      </a:lnTo>
                      <a:lnTo>
                        <a:pt x="6" y="47"/>
                      </a:lnTo>
                      <a:lnTo>
                        <a:pt x="0" y="29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600800" y="4975200"/>
                  <a:ext cx="338040" cy="741240"/>
                </a:xfrm>
                <a:custGeom>
                  <a:avLst/>
                  <a:gdLst/>
                  <a:ahLst/>
                  <a:rect l="l" t="t" r="r" b="b"/>
                  <a:pathLst>
                    <a:path w="213" h="467">
                      <a:moveTo>
                        <a:pt x="123" y="147"/>
                      </a:moveTo>
                      <a:lnTo>
                        <a:pt x="116" y="101"/>
                      </a:lnTo>
                      <a:lnTo>
                        <a:pt x="104" y="67"/>
                      </a:lnTo>
                      <a:lnTo>
                        <a:pt x="104" y="12"/>
                      </a:lnTo>
                      <a:lnTo>
                        <a:pt x="127" y="0"/>
                      </a:lnTo>
                      <a:lnTo>
                        <a:pt x="151" y="1"/>
                      </a:lnTo>
                      <a:lnTo>
                        <a:pt x="174" y="17"/>
                      </a:lnTo>
                      <a:lnTo>
                        <a:pt x="179" y="49"/>
                      </a:lnTo>
                      <a:lnTo>
                        <a:pt x="173" y="113"/>
                      </a:lnTo>
                      <a:lnTo>
                        <a:pt x="155" y="189"/>
                      </a:lnTo>
                      <a:lnTo>
                        <a:pt x="149" y="227"/>
                      </a:lnTo>
                      <a:lnTo>
                        <a:pt x="149" y="264"/>
                      </a:lnTo>
                      <a:lnTo>
                        <a:pt x="159" y="307"/>
                      </a:lnTo>
                      <a:lnTo>
                        <a:pt x="179" y="357"/>
                      </a:lnTo>
                      <a:lnTo>
                        <a:pt x="193" y="385"/>
                      </a:lnTo>
                      <a:lnTo>
                        <a:pt x="205" y="408"/>
                      </a:lnTo>
                      <a:lnTo>
                        <a:pt x="212" y="432"/>
                      </a:lnTo>
                      <a:lnTo>
                        <a:pt x="207" y="449"/>
                      </a:lnTo>
                      <a:lnTo>
                        <a:pt x="191" y="453"/>
                      </a:lnTo>
                      <a:lnTo>
                        <a:pt x="168" y="453"/>
                      </a:lnTo>
                      <a:lnTo>
                        <a:pt x="126" y="444"/>
                      </a:lnTo>
                      <a:lnTo>
                        <a:pt x="89" y="453"/>
                      </a:lnTo>
                      <a:lnTo>
                        <a:pt x="52" y="466"/>
                      </a:lnTo>
                      <a:lnTo>
                        <a:pt x="32" y="466"/>
                      </a:lnTo>
                      <a:lnTo>
                        <a:pt x="13" y="453"/>
                      </a:lnTo>
                      <a:lnTo>
                        <a:pt x="0" y="436"/>
                      </a:lnTo>
                      <a:lnTo>
                        <a:pt x="34" y="425"/>
                      </a:lnTo>
                      <a:lnTo>
                        <a:pt x="89" y="419"/>
                      </a:lnTo>
                      <a:lnTo>
                        <a:pt x="146" y="423"/>
                      </a:lnTo>
                      <a:lnTo>
                        <a:pt x="168" y="433"/>
                      </a:lnTo>
                      <a:lnTo>
                        <a:pt x="179" y="421"/>
                      </a:lnTo>
                      <a:lnTo>
                        <a:pt x="173" y="403"/>
                      </a:lnTo>
                      <a:lnTo>
                        <a:pt x="151" y="348"/>
                      </a:lnTo>
                      <a:lnTo>
                        <a:pt x="131" y="301"/>
                      </a:lnTo>
                      <a:lnTo>
                        <a:pt x="121" y="260"/>
                      </a:lnTo>
                      <a:lnTo>
                        <a:pt x="118" y="226"/>
                      </a:lnTo>
                      <a:lnTo>
                        <a:pt x="121" y="193"/>
                      </a:lnTo>
                      <a:lnTo>
                        <a:pt x="121" y="173"/>
                      </a:lnTo>
                      <a:lnTo>
                        <a:pt x="123" y="14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943440" y="4270320"/>
                  <a:ext cx="722520" cy="442800"/>
                </a:xfrm>
                <a:custGeom>
                  <a:avLst/>
                  <a:gdLst/>
                  <a:ahLst/>
                  <a:rect l="l" t="t" r="r" b="b"/>
                  <a:pathLst>
                    <a:path w="455" h="279">
                      <a:moveTo>
                        <a:pt x="386" y="226"/>
                      </a:moveTo>
                      <a:lnTo>
                        <a:pt x="404" y="213"/>
                      </a:lnTo>
                      <a:lnTo>
                        <a:pt x="436" y="202"/>
                      </a:lnTo>
                      <a:lnTo>
                        <a:pt x="452" y="212"/>
                      </a:lnTo>
                      <a:lnTo>
                        <a:pt x="454" y="237"/>
                      </a:lnTo>
                      <a:lnTo>
                        <a:pt x="433" y="254"/>
                      </a:lnTo>
                      <a:lnTo>
                        <a:pt x="404" y="262"/>
                      </a:lnTo>
                      <a:lnTo>
                        <a:pt x="346" y="273"/>
                      </a:lnTo>
                      <a:lnTo>
                        <a:pt x="291" y="278"/>
                      </a:lnTo>
                      <a:lnTo>
                        <a:pt x="237" y="272"/>
                      </a:lnTo>
                      <a:lnTo>
                        <a:pt x="180" y="228"/>
                      </a:lnTo>
                      <a:lnTo>
                        <a:pt x="142" y="164"/>
                      </a:lnTo>
                      <a:lnTo>
                        <a:pt x="109" y="103"/>
                      </a:lnTo>
                      <a:lnTo>
                        <a:pt x="85" y="74"/>
                      </a:lnTo>
                      <a:lnTo>
                        <a:pt x="53" y="79"/>
                      </a:lnTo>
                      <a:lnTo>
                        <a:pt x="16" y="93"/>
                      </a:lnTo>
                      <a:lnTo>
                        <a:pt x="6" y="84"/>
                      </a:lnTo>
                      <a:lnTo>
                        <a:pt x="45" y="68"/>
                      </a:lnTo>
                      <a:lnTo>
                        <a:pt x="43" y="60"/>
                      </a:lnTo>
                      <a:lnTo>
                        <a:pt x="0" y="45"/>
                      </a:lnTo>
                      <a:lnTo>
                        <a:pt x="10" y="38"/>
                      </a:lnTo>
                      <a:lnTo>
                        <a:pt x="32" y="41"/>
                      </a:lnTo>
                      <a:lnTo>
                        <a:pt x="56" y="49"/>
                      </a:lnTo>
                      <a:lnTo>
                        <a:pt x="59" y="45"/>
                      </a:lnTo>
                      <a:lnTo>
                        <a:pt x="43" y="3"/>
                      </a:lnTo>
                      <a:lnTo>
                        <a:pt x="51" y="0"/>
                      </a:lnTo>
                      <a:lnTo>
                        <a:pt x="54" y="0"/>
                      </a:lnTo>
                      <a:lnTo>
                        <a:pt x="72" y="39"/>
                      </a:lnTo>
                      <a:lnTo>
                        <a:pt x="80" y="41"/>
                      </a:lnTo>
                      <a:lnTo>
                        <a:pt x="93" y="3"/>
                      </a:lnTo>
                      <a:lnTo>
                        <a:pt x="96" y="1"/>
                      </a:lnTo>
                      <a:lnTo>
                        <a:pt x="104" y="11"/>
                      </a:lnTo>
                      <a:lnTo>
                        <a:pt x="93" y="42"/>
                      </a:lnTo>
                      <a:lnTo>
                        <a:pt x="101" y="64"/>
                      </a:lnTo>
                      <a:lnTo>
                        <a:pt x="123" y="96"/>
                      </a:lnTo>
                      <a:lnTo>
                        <a:pt x="146" y="142"/>
                      </a:lnTo>
                      <a:lnTo>
                        <a:pt x="180" y="199"/>
                      </a:lnTo>
                      <a:lnTo>
                        <a:pt x="218" y="228"/>
                      </a:lnTo>
                      <a:lnTo>
                        <a:pt x="252" y="242"/>
                      </a:lnTo>
                      <a:lnTo>
                        <a:pt x="305" y="243"/>
                      </a:lnTo>
                      <a:lnTo>
                        <a:pt x="355" y="234"/>
                      </a:lnTo>
                      <a:lnTo>
                        <a:pt x="397" y="223"/>
                      </a:lnTo>
                      <a:lnTo>
                        <a:pt x="400" y="218"/>
                      </a:lnTo>
                      <a:lnTo>
                        <a:pt x="386" y="22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060720" y="4432320"/>
                <a:ext cx="1170000" cy="1436760"/>
                <a:chOff x="3060720" y="4432320"/>
                <a:chExt cx="1170000" cy="1436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060720" y="4611600"/>
                  <a:ext cx="424080" cy="324000"/>
                </a:xfrm>
                <a:custGeom>
                  <a:avLst/>
                  <a:gdLst/>
                  <a:ahLst/>
                  <a:rect l="l" t="t" r="r" b="b"/>
                  <a:pathLst>
                    <a:path w="267" h="204">
                      <a:moveTo>
                        <a:pt x="85" y="0"/>
                      </a:moveTo>
                      <a:lnTo>
                        <a:pt x="57" y="3"/>
                      </a:lnTo>
                      <a:lnTo>
                        <a:pt x="34" y="9"/>
                      </a:lnTo>
                      <a:lnTo>
                        <a:pt x="14" y="21"/>
                      </a:lnTo>
                      <a:lnTo>
                        <a:pt x="3" y="35"/>
                      </a:lnTo>
                      <a:lnTo>
                        <a:pt x="0" y="58"/>
                      </a:lnTo>
                      <a:lnTo>
                        <a:pt x="16" y="86"/>
                      </a:lnTo>
                      <a:lnTo>
                        <a:pt x="41" y="105"/>
                      </a:lnTo>
                      <a:lnTo>
                        <a:pt x="64" y="118"/>
                      </a:lnTo>
                      <a:lnTo>
                        <a:pt x="101" y="128"/>
                      </a:lnTo>
                      <a:lnTo>
                        <a:pt x="111" y="143"/>
                      </a:lnTo>
                      <a:lnTo>
                        <a:pt x="107" y="194"/>
                      </a:lnTo>
                      <a:lnTo>
                        <a:pt x="124" y="203"/>
                      </a:lnTo>
                      <a:lnTo>
                        <a:pt x="133" y="140"/>
                      </a:lnTo>
                      <a:lnTo>
                        <a:pt x="162" y="144"/>
                      </a:lnTo>
                      <a:lnTo>
                        <a:pt x="199" y="143"/>
                      </a:lnTo>
                      <a:lnTo>
                        <a:pt x="229" y="142"/>
                      </a:lnTo>
                      <a:lnTo>
                        <a:pt x="253" y="133"/>
                      </a:lnTo>
                      <a:lnTo>
                        <a:pt x="266" y="115"/>
                      </a:lnTo>
                      <a:lnTo>
                        <a:pt x="259" y="92"/>
                      </a:lnTo>
                      <a:lnTo>
                        <a:pt x="235" y="56"/>
                      </a:lnTo>
                      <a:lnTo>
                        <a:pt x="201" y="31"/>
                      </a:lnTo>
                      <a:lnTo>
                        <a:pt x="159" y="13"/>
                      </a:lnTo>
                      <a:lnTo>
                        <a:pt x="122" y="3"/>
                      </a:lnTo>
                      <a:lnTo>
                        <a:pt x="103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529080" y="4432320"/>
                  <a:ext cx="571680" cy="372960"/>
                </a:xfrm>
                <a:custGeom>
                  <a:avLst/>
                  <a:gdLst/>
                  <a:ahLst/>
                  <a:rect l="l" t="t" r="r" b="b"/>
                  <a:pathLst>
                    <a:path w="360" h="235">
                      <a:moveTo>
                        <a:pt x="34" y="172"/>
                      </a:moveTo>
                      <a:lnTo>
                        <a:pt x="15" y="185"/>
                      </a:lnTo>
                      <a:lnTo>
                        <a:pt x="0" y="201"/>
                      </a:lnTo>
                      <a:lnTo>
                        <a:pt x="10" y="220"/>
                      </a:lnTo>
                      <a:lnTo>
                        <a:pt x="35" y="225"/>
                      </a:lnTo>
                      <a:lnTo>
                        <a:pt x="65" y="211"/>
                      </a:lnTo>
                      <a:lnTo>
                        <a:pt x="88" y="188"/>
                      </a:lnTo>
                      <a:lnTo>
                        <a:pt x="130" y="139"/>
                      </a:lnTo>
                      <a:lnTo>
                        <a:pt x="157" y="102"/>
                      </a:lnTo>
                      <a:lnTo>
                        <a:pt x="178" y="72"/>
                      </a:lnTo>
                      <a:lnTo>
                        <a:pt x="198" y="46"/>
                      </a:lnTo>
                      <a:lnTo>
                        <a:pt x="205" y="34"/>
                      </a:lnTo>
                      <a:lnTo>
                        <a:pt x="217" y="34"/>
                      </a:lnTo>
                      <a:lnTo>
                        <a:pt x="227" y="54"/>
                      </a:lnTo>
                      <a:lnTo>
                        <a:pt x="243" y="80"/>
                      </a:lnTo>
                      <a:lnTo>
                        <a:pt x="255" y="120"/>
                      </a:lnTo>
                      <a:lnTo>
                        <a:pt x="264" y="151"/>
                      </a:lnTo>
                      <a:lnTo>
                        <a:pt x="266" y="182"/>
                      </a:lnTo>
                      <a:lnTo>
                        <a:pt x="265" y="205"/>
                      </a:lnTo>
                      <a:lnTo>
                        <a:pt x="273" y="227"/>
                      </a:lnTo>
                      <a:lnTo>
                        <a:pt x="283" y="234"/>
                      </a:lnTo>
                      <a:lnTo>
                        <a:pt x="295" y="227"/>
                      </a:lnTo>
                      <a:lnTo>
                        <a:pt x="312" y="202"/>
                      </a:lnTo>
                      <a:lnTo>
                        <a:pt x="343" y="181"/>
                      </a:lnTo>
                      <a:lnTo>
                        <a:pt x="359" y="169"/>
                      </a:lnTo>
                      <a:lnTo>
                        <a:pt x="355" y="158"/>
                      </a:lnTo>
                      <a:lnTo>
                        <a:pt x="346" y="155"/>
                      </a:lnTo>
                      <a:lnTo>
                        <a:pt x="328" y="166"/>
                      </a:lnTo>
                      <a:lnTo>
                        <a:pt x="302" y="183"/>
                      </a:lnTo>
                      <a:lnTo>
                        <a:pt x="289" y="185"/>
                      </a:lnTo>
                      <a:lnTo>
                        <a:pt x="289" y="174"/>
                      </a:lnTo>
                      <a:lnTo>
                        <a:pt x="288" y="148"/>
                      </a:lnTo>
                      <a:lnTo>
                        <a:pt x="282" y="118"/>
                      </a:lnTo>
                      <a:lnTo>
                        <a:pt x="268" y="90"/>
                      </a:lnTo>
                      <a:lnTo>
                        <a:pt x="258" y="59"/>
                      </a:lnTo>
                      <a:lnTo>
                        <a:pt x="245" y="33"/>
                      </a:lnTo>
                      <a:lnTo>
                        <a:pt x="225" y="7"/>
                      </a:lnTo>
                      <a:lnTo>
                        <a:pt x="211" y="0"/>
                      </a:lnTo>
                      <a:lnTo>
                        <a:pt x="193" y="9"/>
                      </a:lnTo>
                      <a:lnTo>
                        <a:pt x="182" y="16"/>
                      </a:lnTo>
                      <a:lnTo>
                        <a:pt x="166" y="33"/>
                      </a:lnTo>
                      <a:lnTo>
                        <a:pt x="136" y="68"/>
                      </a:lnTo>
                      <a:lnTo>
                        <a:pt x="117" y="94"/>
                      </a:lnTo>
                      <a:lnTo>
                        <a:pt x="87" y="125"/>
                      </a:lnTo>
                      <a:lnTo>
                        <a:pt x="58" y="151"/>
                      </a:lnTo>
                      <a:lnTo>
                        <a:pt x="34" y="17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116520" y="4889520"/>
                  <a:ext cx="374400" cy="465120"/>
                </a:xfrm>
                <a:custGeom>
                  <a:avLst/>
                  <a:gdLst/>
                  <a:ahLst/>
                  <a:rect l="l" t="t" r="r" b="b"/>
                  <a:pathLst>
                    <a:path w="236" h="293">
                      <a:moveTo>
                        <a:pt x="153" y="23"/>
                      </a:moveTo>
                      <a:lnTo>
                        <a:pt x="159" y="5"/>
                      </a:lnTo>
                      <a:lnTo>
                        <a:pt x="175" y="0"/>
                      </a:lnTo>
                      <a:lnTo>
                        <a:pt x="191" y="5"/>
                      </a:lnTo>
                      <a:lnTo>
                        <a:pt x="202" y="22"/>
                      </a:lnTo>
                      <a:lnTo>
                        <a:pt x="197" y="34"/>
                      </a:lnTo>
                      <a:lnTo>
                        <a:pt x="178" y="55"/>
                      </a:lnTo>
                      <a:lnTo>
                        <a:pt x="146" y="77"/>
                      </a:lnTo>
                      <a:lnTo>
                        <a:pt x="101" y="110"/>
                      </a:lnTo>
                      <a:lnTo>
                        <a:pt x="47" y="143"/>
                      </a:lnTo>
                      <a:lnTo>
                        <a:pt x="32" y="152"/>
                      </a:lnTo>
                      <a:lnTo>
                        <a:pt x="28" y="165"/>
                      </a:lnTo>
                      <a:lnTo>
                        <a:pt x="41" y="178"/>
                      </a:lnTo>
                      <a:lnTo>
                        <a:pt x="60" y="185"/>
                      </a:lnTo>
                      <a:lnTo>
                        <a:pt x="87" y="192"/>
                      </a:lnTo>
                      <a:lnTo>
                        <a:pt x="121" y="197"/>
                      </a:lnTo>
                      <a:lnTo>
                        <a:pt x="150" y="195"/>
                      </a:lnTo>
                      <a:lnTo>
                        <a:pt x="184" y="195"/>
                      </a:lnTo>
                      <a:lnTo>
                        <a:pt x="208" y="187"/>
                      </a:lnTo>
                      <a:lnTo>
                        <a:pt x="233" y="192"/>
                      </a:lnTo>
                      <a:lnTo>
                        <a:pt x="235" y="205"/>
                      </a:lnTo>
                      <a:lnTo>
                        <a:pt x="223" y="223"/>
                      </a:lnTo>
                      <a:lnTo>
                        <a:pt x="199" y="251"/>
                      </a:lnTo>
                      <a:lnTo>
                        <a:pt x="196" y="273"/>
                      </a:lnTo>
                      <a:lnTo>
                        <a:pt x="194" y="292"/>
                      </a:lnTo>
                      <a:lnTo>
                        <a:pt x="183" y="290"/>
                      </a:lnTo>
                      <a:lnTo>
                        <a:pt x="173" y="278"/>
                      </a:lnTo>
                      <a:lnTo>
                        <a:pt x="177" y="258"/>
                      </a:lnTo>
                      <a:lnTo>
                        <a:pt x="190" y="235"/>
                      </a:lnTo>
                      <a:lnTo>
                        <a:pt x="207" y="220"/>
                      </a:lnTo>
                      <a:lnTo>
                        <a:pt x="206" y="207"/>
                      </a:lnTo>
                      <a:lnTo>
                        <a:pt x="171" y="214"/>
                      </a:lnTo>
                      <a:lnTo>
                        <a:pt x="127" y="216"/>
                      </a:lnTo>
                      <a:lnTo>
                        <a:pt x="100" y="217"/>
                      </a:lnTo>
                      <a:lnTo>
                        <a:pt x="76" y="215"/>
                      </a:lnTo>
                      <a:lnTo>
                        <a:pt x="42" y="200"/>
                      </a:lnTo>
                      <a:lnTo>
                        <a:pt x="18" y="189"/>
                      </a:lnTo>
                      <a:lnTo>
                        <a:pt x="0" y="169"/>
                      </a:lnTo>
                      <a:lnTo>
                        <a:pt x="1" y="153"/>
                      </a:lnTo>
                      <a:lnTo>
                        <a:pt x="11" y="141"/>
                      </a:lnTo>
                      <a:lnTo>
                        <a:pt x="58" y="114"/>
                      </a:lnTo>
                      <a:lnTo>
                        <a:pt x="107" y="81"/>
                      </a:lnTo>
                      <a:lnTo>
                        <a:pt x="143" y="53"/>
                      </a:lnTo>
                      <a:lnTo>
                        <a:pt x="155" y="34"/>
                      </a:lnTo>
                      <a:lnTo>
                        <a:pt x="153" y="2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72000" y="5146560"/>
                  <a:ext cx="558720" cy="639720"/>
                </a:xfrm>
                <a:custGeom>
                  <a:avLst/>
                  <a:gdLst/>
                  <a:ahLst/>
                  <a:rect l="l" t="t" r="r" b="b"/>
                  <a:pathLst>
                    <a:path w="352" h="403">
                      <a:moveTo>
                        <a:pt x="5" y="7"/>
                      </a:moveTo>
                      <a:lnTo>
                        <a:pt x="43" y="0"/>
                      </a:lnTo>
                      <a:lnTo>
                        <a:pt x="97" y="9"/>
                      </a:lnTo>
                      <a:lnTo>
                        <a:pt x="173" y="24"/>
                      </a:lnTo>
                      <a:lnTo>
                        <a:pt x="224" y="53"/>
                      </a:lnTo>
                      <a:lnTo>
                        <a:pt x="238" y="80"/>
                      </a:lnTo>
                      <a:lnTo>
                        <a:pt x="199" y="111"/>
                      </a:lnTo>
                      <a:lnTo>
                        <a:pt x="168" y="101"/>
                      </a:lnTo>
                      <a:lnTo>
                        <a:pt x="139" y="78"/>
                      </a:lnTo>
                      <a:lnTo>
                        <a:pt x="108" y="54"/>
                      </a:lnTo>
                      <a:lnTo>
                        <a:pt x="78" y="35"/>
                      </a:lnTo>
                      <a:lnTo>
                        <a:pt x="51" y="32"/>
                      </a:lnTo>
                      <a:lnTo>
                        <a:pt x="51" y="43"/>
                      </a:lnTo>
                      <a:lnTo>
                        <a:pt x="95" y="85"/>
                      </a:lnTo>
                      <a:lnTo>
                        <a:pt x="158" y="131"/>
                      </a:lnTo>
                      <a:lnTo>
                        <a:pt x="205" y="166"/>
                      </a:lnTo>
                      <a:lnTo>
                        <a:pt x="269" y="199"/>
                      </a:lnTo>
                      <a:lnTo>
                        <a:pt x="316" y="221"/>
                      </a:lnTo>
                      <a:lnTo>
                        <a:pt x="341" y="217"/>
                      </a:lnTo>
                      <a:lnTo>
                        <a:pt x="351" y="223"/>
                      </a:lnTo>
                      <a:lnTo>
                        <a:pt x="340" y="266"/>
                      </a:lnTo>
                      <a:lnTo>
                        <a:pt x="326" y="337"/>
                      </a:lnTo>
                      <a:lnTo>
                        <a:pt x="344" y="395"/>
                      </a:lnTo>
                      <a:lnTo>
                        <a:pt x="333" y="402"/>
                      </a:lnTo>
                      <a:lnTo>
                        <a:pt x="310" y="375"/>
                      </a:lnTo>
                      <a:lnTo>
                        <a:pt x="296" y="335"/>
                      </a:lnTo>
                      <a:lnTo>
                        <a:pt x="301" y="295"/>
                      </a:lnTo>
                      <a:lnTo>
                        <a:pt x="304" y="271"/>
                      </a:lnTo>
                      <a:lnTo>
                        <a:pt x="294" y="251"/>
                      </a:lnTo>
                      <a:lnTo>
                        <a:pt x="261" y="226"/>
                      </a:lnTo>
                      <a:lnTo>
                        <a:pt x="208" y="200"/>
                      </a:lnTo>
                      <a:lnTo>
                        <a:pt x="139" y="162"/>
                      </a:lnTo>
                      <a:lnTo>
                        <a:pt x="88" y="122"/>
                      </a:lnTo>
                      <a:lnTo>
                        <a:pt x="37" y="79"/>
                      </a:lnTo>
                      <a:lnTo>
                        <a:pt x="12" y="47"/>
                      </a:lnTo>
                      <a:lnTo>
                        <a:pt x="0" y="22"/>
                      </a:lnTo>
                      <a:lnTo>
                        <a:pt x="5" y="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62560" y="5222880"/>
                  <a:ext cx="452520" cy="646200"/>
                </a:xfrm>
                <a:custGeom>
                  <a:avLst/>
                  <a:gdLst/>
                  <a:ahLst/>
                  <a:rect l="l" t="t" r="r" b="b"/>
                  <a:pathLst>
                    <a:path w="285" h="407">
                      <a:moveTo>
                        <a:pt x="63" y="21"/>
                      </a:moveTo>
                      <a:lnTo>
                        <a:pt x="92" y="16"/>
                      </a:lnTo>
                      <a:lnTo>
                        <a:pt x="133" y="9"/>
                      </a:lnTo>
                      <a:lnTo>
                        <a:pt x="170" y="4"/>
                      </a:lnTo>
                      <a:lnTo>
                        <a:pt x="229" y="0"/>
                      </a:lnTo>
                      <a:lnTo>
                        <a:pt x="259" y="18"/>
                      </a:lnTo>
                      <a:lnTo>
                        <a:pt x="284" y="61"/>
                      </a:lnTo>
                      <a:lnTo>
                        <a:pt x="253" y="84"/>
                      </a:lnTo>
                      <a:lnTo>
                        <a:pt x="222" y="85"/>
                      </a:lnTo>
                      <a:lnTo>
                        <a:pt x="178" y="73"/>
                      </a:lnTo>
                      <a:lnTo>
                        <a:pt x="137" y="56"/>
                      </a:lnTo>
                      <a:lnTo>
                        <a:pt x="107" y="54"/>
                      </a:lnTo>
                      <a:lnTo>
                        <a:pt x="82" y="59"/>
                      </a:lnTo>
                      <a:lnTo>
                        <a:pt x="60" y="67"/>
                      </a:lnTo>
                      <a:lnTo>
                        <a:pt x="56" y="84"/>
                      </a:lnTo>
                      <a:lnTo>
                        <a:pt x="78" y="114"/>
                      </a:lnTo>
                      <a:lnTo>
                        <a:pt x="150" y="191"/>
                      </a:lnTo>
                      <a:lnTo>
                        <a:pt x="198" y="230"/>
                      </a:lnTo>
                      <a:lnTo>
                        <a:pt x="231" y="251"/>
                      </a:lnTo>
                      <a:lnTo>
                        <a:pt x="249" y="267"/>
                      </a:lnTo>
                      <a:lnTo>
                        <a:pt x="255" y="278"/>
                      </a:lnTo>
                      <a:lnTo>
                        <a:pt x="239" y="294"/>
                      </a:lnTo>
                      <a:lnTo>
                        <a:pt x="209" y="322"/>
                      </a:lnTo>
                      <a:lnTo>
                        <a:pt x="178" y="363"/>
                      </a:lnTo>
                      <a:lnTo>
                        <a:pt x="177" y="396"/>
                      </a:lnTo>
                      <a:lnTo>
                        <a:pt x="161" y="406"/>
                      </a:lnTo>
                      <a:lnTo>
                        <a:pt x="146" y="394"/>
                      </a:lnTo>
                      <a:lnTo>
                        <a:pt x="146" y="366"/>
                      </a:lnTo>
                      <a:lnTo>
                        <a:pt x="161" y="336"/>
                      </a:lnTo>
                      <a:lnTo>
                        <a:pt x="183" y="306"/>
                      </a:lnTo>
                      <a:lnTo>
                        <a:pt x="206" y="282"/>
                      </a:lnTo>
                      <a:lnTo>
                        <a:pt x="208" y="272"/>
                      </a:lnTo>
                      <a:lnTo>
                        <a:pt x="179" y="251"/>
                      </a:lnTo>
                      <a:lnTo>
                        <a:pt x="130" y="214"/>
                      </a:lnTo>
                      <a:lnTo>
                        <a:pt x="105" y="192"/>
                      </a:lnTo>
                      <a:lnTo>
                        <a:pt x="64" y="153"/>
                      </a:lnTo>
                      <a:lnTo>
                        <a:pt x="28" y="107"/>
                      </a:lnTo>
                      <a:lnTo>
                        <a:pt x="4" y="70"/>
                      </a:lnTo>
                      <a:lnTo>
                        <a:pt x="0" y="50"/>
                      </a:lnTo>
                      <a:lnTo>
                        <a:pt x="5" y="35"/>
                      </a:lnTo>
                      <a:lnTo>
                        <a:pt x="21" y="28"/>
                      </a:lnTo>
                      <a:lnTo>
                        <a:pt x="36" y="24"/>
                      </a:lnTo>
                      <a:lnTo>
                        <a:pt x="63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8320" y="4800600"/>
                  <a:ext cx="590760" cy="546120"/>
                </a:xfrm>
                <a:custGeom>
                  <a:avLst/>
                  <a:gdLst/>
                  <a:ahLst/>
                  <a:rect l="l" t="t" r="r" b="b"/>
                  <a:pathLst>
                    <a:path w="372" h="344">
                      <a:moveTo>
                        <a:pt x="0" y="44"/>
                      </a:moveTo>
                      <a:lnTo>
                        <a:pt x="11" y="23"/>
                      </a:lnTo>
                      <a:lnTo>
                        <a:pt x="45" y="6"/>
                      </a:lnTo>
                      <a:lnTo>
                        <a:pt x="80" y="0"/>
                      </a:lnTo>
                      <a:lnTo>
                        <a:pt x="134" y="13"/>
                      </a:lnTo>
                      <a:lnTo>
                        <a:pt x="204" y="44"/>
                      </a:lnTo>
                      <a:lnTo>
                        <a:pt x="264" y="82"/>
                      </a:lnTo>
                      <a:lnTo>
                        <a:pt x="313" y="125"/>
                      </a:lnTo>
                      <a:lnTo>
                        <a:pt x="343" y="171"/>
                      </a:lnTo>
                      <a:lnTo>
                        <a:pt x="363" y="217"/>
                      </a:lnTo>
                      <a:lnTo>
                        <a:pt x="371" y="255"/>
                      </a:lnTo>
                      <a:lnTo>
                        <a:pt x="363" y="280"/>
                      </a:lnTo>
                      <a:lnTo>
                        <a:pt x="344" y="323"/>
                      </a:lnTo>
                      <a:lnTo>
                        <a:pt x="318" y="338"/>
                      </a:lnTo>
                      <a:lnTo>
                        <a:pt x="276" y="343"/>
                      </a:lnTo>
                      <a:lnTo>
                        <a:pt x="235" y="333"/>
                      </a:lnTo>
                      <a:lnTo>
                        <a:pt x="224" y="307"/>
                      </a:lnTo>
                      <a:lnTo>
                        <a:pt x="212" y="271"/>
                      </a:lnTo>
                      <a:lnTo>
                        <a:pt x="217" y="239"/>
                      </a:lnTo>
                      <a:lnTo>
                        <a:pt x="217" y="212"/>
                      </a:lnTo>
                      <a:lnTo>
                        <a:pt x="210" y="188"/>
                      </a:lnTo>
                      <a:lnTo>
                        <a:pt x="191" y="165"/>
                      </a:lnTo>
                      <a:lnTo>
                        <a:pt x="161" y="141"/>
                      </a:lnTo>
                      <a:lnTo>
                        <a:pt x="127" y="126"/>
                      </a:lnTo>
                      <a:lnTo>
                        <a:pt x="81" y="115"/>
                      </a:lnTo>
                      <a:lnTo>
                        <a:pt x="47" y="107"/>
                      </a:lnTo>
                      <a:lnTo>
                        <a:pt x="20" y="91"/>
                      </a:lnTo>
                      <a:lnTo>
                        <a:pt x="3" y="69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3846600" y="5867280"/>
                <a:ext cx="9921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uch!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6129360" y="4314960"/>
            <a:ext cx="2444760" cy="2010600"/>
            <a:chOff x="6129360" y="4314960"/>
            <a:chExt cx="2444760" cy="2010600"/>
          </a:xfrm>
        </p:grpSpPr>
        <p:sp>
          <p:nvSpPr>
            <p:cNvPr id="185" name=""/>
            <p:cNvSpPr/>
            <p:nvPr/>
          </p:nvSpPr>
          <p:spPr>
            <a:xfrm>
              <a:off x="6286680" y="5867280"/>
              <a:ext cx="992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uch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6129360" y="4314960"/>
              <a:ext cx="2444760" cy="1861920"/>
              <a:chOff x="6129360" y="4314960"/>
              <a:chExt cx="2444760" cy="186192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7618320" y="4756320"/>
                <a:ext cx="955800" cy="1420560"/>
                <a:chOff x="7618320" y="4756320"/>
                <a:chExt cx="955800" cy="14205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8118360" y="4811760"/>
                  <a:ext cx="300240" cy="363600"/>
                </a:xfrm>
                <a:custGeom>
                  <a:avLst/>
                  <a:gdLst/>
                  <a:ahLst/>
                  <a:rect l="l" t="t" r="r" b="b"/>
                  <a:pathLst>
                    <a:path w="568" h="685">
                      <a:moveTo>
                        <a:pt x="39" y="328"/>
                      </a:moveTo>
                      <a:lnTo>
                        <a:pt x="81" y="230"/>
                      </a:lnTo>
                      <a:lnTo>
                        <a:pt x="171" y="128"/>
                      </a:lnTo>
                      <a:lnTo>
                        <a:pt x="261" y="64"/>
                      </a:lnTo>
                      <a:lnTo>
                        <a:pt x="359" y="13"/>
                      </a:lnTo>
                      <a:lnTo>
                        <a:pt x="453" y="0"/>
                      </a:lnTo>
                      <a:lnTo>
                        <a:pt x="517" y="21"/>
                      </a:lnTo>
                      <a:lnTo>
                        <a:pt x="555" y="72"/>
                      </a:lnTo>
                      <a:lnTo>
                        <a:pt x="568" y="136"/>
                      </a:lnTo>
                      <a:lnTo>
                        <a:pt x="555" y="217"/>
                      </a:lnTo>
                      <a:lnTo>
                        <a:pt x="525" y="307"/>
                      </a:lnTo>
                      <a:lnTo>
                        <a:pt x="453" y="392"/>
                      </a:lnTo>
                      <a:lnTo>
                        <a:pt x="372" y="486"/>
                      </a:lnTo>
                      <a:lnTo>
                        <a:pt x="423" y="652"/>
                      </a:lnTo>
                      <a:lnTo>
                        <a:pt x="410" y="685"/>
                      </a:lnTo>
                      <a:lnTo>
                        <a:pt x="384" y="678"/>
                      </a:lnTo>
                      <a:lnTo>
                        <a:pt x="320" y="546"/>
                      </a:lnTo>
                      <a:lnTo>
                        <a:pt x="231" y="601"/>
                      </a:lnTo>
                      <a:lnTo>
                        <a:pt x="120" y="623"/>
                      </a:lnTo>
                      <a:lnTo>
                        <a:pt x="51" y="614"/>
                      </a:lnTo>
                      <a:lnTo>
                        <a:pt x="4" y="563"/>
                      </a:lnTo>
                      <a:lnTo>
                        <a:pt x="0" y="482"/>
                      </a:lnTo>
                      <a:lnTo>
                        <a:pt x="0" y="409"/>
                      </a:lnTo>
                      <a:lnTo>
                        <a:pt x="39" y="3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862760" y="4756320"/>
                  <a:ext cx="338400" cy="406080"/>
                </a:xfrm>
                <a:custGeom>
                  <a:avLst/>
                  <a:gdLst/>
                  <a:ahLst/>
                  <a:rect l="l" t="t" r="r" b="b"/>
                  <a:pathLst>
                    <a:path w="637" h="767">
                      <a:moveTo>
                        <a:pt x="263" y="551"/>
                      </a:moveTo>
                      <a:lnTo>
                        <a:pt x="289" y="577"/>
                      </a:lnTo>
                      <a:lnTo>
                        <a:pt x="306" y="624"/>
                      </a:lnTo>
                      <a:lnTo>
                        <a:pt x="314" y="718"/>
                      </a:lnTo>
                      <a:lnTo>
                        <a:pt x="255" y="767"/>
                      </a:lnTo>
                      <a:lnTo>
                        <a:pt x="173" y="726"/>
                      </a:lnTo>
                      <a:lnTo>
                        <a:pt x="141" y="598"/>
                      </a:lnTo>
                      <a:lnTo>
                        <a:pt x="60" y="395"/>
                      </a:lnTo>
                      <a:lnTo>
                        <a:pt x="21" y="217"/>
                      </a:lnTo>
                      <a:lnTo>
                        <a:pt x="0" y="51"/>
                      </a:lnTo>
                      <a:lnTo>
                        <a:pt x="21" y="0"/>
                      </a:lnTo>
                      <a:lnTo>
                        <a:pt x="51" y="0"/>
                      </a:lnTo>
                      <a:lnTo>
                        <a:pt x="199" y="42"/>
                      </a:lnTo>
                      <a:lnTo>
                        <a:pt x="391" y="115"/>
                      </a:lnTo>
                      <a:lnTo>
                        <a:pt x="442" y="119"/>
                      </a:lnTo>
                      <a:lnTo>
                        <a:pt x="484" y="106"/>
                      </a:lnTo>
                      <a:lnTo>
                        <a:pt x="518" y="166"/>
                      </a:lnTo>
                      <a:lnTo>
                        <a:pt x="637" y="254"/>
                      </a:lnTo>
                      <a:lnTo>
                        <a:pt x="637" y="280"/>
                      </a:lnTo>
                      <a:lnTo>
                        <a:pt x="612" y="293"/>
                      </a:lnTo>
                      <a:lnTo>
                        <a:pt x="522" y="217"/>
                      </a:lnTo>
                      <a:lnTo>
                        <a:pt x="492" y="243"/>
                      </a:lnTo>
                      <a:lnTo>
                        <a:pt x="383" y="271"/>
                      </a:lnTo>
                      <a:lnTo>
                        <a:pt x="319" y="243"/>
                      </a:lnTo>
                      <a:lnTo>
                        <a:pt x="327" y="183"/>
                      </a:lnTo>
                      <a:lnTo>
                        <a:pt x="267" y="140"/>
                      </a:lnTo>
                      <a:lnTo>
                        <a:pt x="161" y="102"/>
                      </a:lnTo>
                      <a:lnTo>
                        <a:pt x="85" y="81"/>
                      </a:lnTo>
                      <a:lnTo>
                        <a:pt x="85" y="140"/>
                      </a:lnTo>
                      <a:lnTo>
                        <a:pt x="102" y="271"/>
                      </a:lnTo>
                      <a:lnTo>
                        <a:pt x="136" y="369"/>
                      </a:lnTo>
                      <a:lnTo>
                        <a:pt x="186" y="476"/>
                      </a:lnTo>
                      <a:lnTo>
                        <a:pt x="263" y="5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101080" y="5019840"/>
                  <a:ext cx="473040" cy="342720"/>
                </a:xfrm>
                <a:custGeom>
                  <a:avLst/>
                  <a:gdLst/>
                  <a:ahLst/>
                  <a:rect l="l" t="t" r="r" b="b"/>
                  <a:pathLst>
                    <a:path w="893" h="650">
                      <a:moveTo>
                        <a:pt x="136" y="392"/>
                      </a:moveTo>
                      <a:lnTo>
                        <a:pt x="76" y="345"/>
                      </a:lnTo>
                      <a:lnTo>
                        <a:pt x="20" y="345"/>
                      </a:lnTo>
                      <a:lnTo>
                        <a:pt x="0" y="397"/>
                      </a:lnTo>
                      <a:lnTo>
                        <a:pt x="20" y="495"/>
                      </a:lnTo>
                      <a:lnTo>
                        <a:pt x="148" y="571"/>
                      </a:lnTo>
                      <a:lnTo>
                        <a:pt x="382" y="640"/>
                      </a:lnTo>
                      <a:lnTo>
                        <a:pt x="429" y="650"/>
                      </a:lnTo>
                      <a:lnTo>
                        <a:pt x="480" y="650"/>
                      </a:lnTo>
                      <a:lnTo>
                        <a:pt x="574" y="650"/>
                      </a:lnTo>
                      <a:lnTo>
                        <a:pt x="739" y="597"/>
                      </a:lnTo>
                      <a:lnTo>
                        <a:pt x="888" y="550"/>
                      </a:lnTo>
                      <a:lnTo>
                        <a:pt x="893" y="520"/>
                      </a:lnTo>
                      <a:lnTo>
                        <a:pt x="816" y="345"/>
                      </a:lnTo>
                      <a:lnTo>
                        <a:pt x="726" y="213"/>
                      </a:lnTo>
                      <a:lnTo>
                        <a:pt x="675" y="149"/>
                      </a:lnTo>
                      <a:lnTo>
                        <a:pt x="675" y="102"/>
                      </a:lnTo>
                      <a:lnTo>
                        <a:pt x="598" y="102"/>
                      </a:lnTo>
                      <a:lnTo>
                        <a:pt x="484" y="0"/>
                      </a:lnTo>
                      <a:lnTo>
                        <a:pt x="454" y="0"/>
                      </a:lnTo>
                      <a:lnTo>
                        <a:pt x="454" y="34"/>
                      </a:lnTo>
                      <a:lnTo>
                        <a:pt x="561" y="111"/>
                      </a:lnTo>
                      <a:lnTo>
                        <a:pt x="561" y="153"/>
                      </a:lnTo>
                      <a:lnTo>
                        <a:pt x="587" y="264"/>
                      </a:lnTo>
                      <a:lnTo>
                        <a:pt x="636" y="277"/>
                      </a:lnTo>
                      <a:lnTo>
                        <a:pt x="688" y="281"/>
                      </a:lnTo>
                      <a:lnTo>
                        <a:pt x="747" y="354"/>
                      </a:lnTo>
                      <a:lnTo>
                        <a:pt x="786" y="482"/>
                      </a:lnTo>
                      <a:lnTo>
                        <a:pt x="760" y="524"/>
                      </a:lnTo>
                      <a:lnTo>
                        <a:pt x="645" y="559"/>
                      </a:lnTo>
                      <a:lnTo>
                        <a:pt x="535" y="563"/>
                      </a:lnTo>
                      <a:lnTo>
                        <a:pt x="446" y="563"/>
                      </a:lnTo>
                      <a:lnTo>
                        <a:pt x="331" y="533"/>
                      </a:lnTo>
                      <a:lnTo>
                        <a:pt x="225" y="473"/>
                      </a:lnTo>
                      <a:lnTo>
                        <a:pt x="136" y="3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759800" y="5099040"/>
                  <a:ext cx="372960" cy="554040"/>
                </a:xfrm>
                <a:custGeom>
                  <a:avLst/>
                  <a:gdLst/>
                  <a:ahLst/>
                  <a:rect l="l" t="t" r="r" b="b"/>
                  <a:pathLst>
                    <a:path w="704" h="1047">
                      <a:moveTo>
                        <a:pt x="192" y="66"/>
                      </a:moveTo>
                      <a:lnTo>
                        <a:pt x="286" y="24"/>
                      </a:lnTo>
                      <a:lnTo>
                        <a:pt x="397" y="2"/>
                      </a:lnTo>
                      <a:lnTo>
                        <a:pt x="529" y="0"/>
                      </a:lnTo>
                      <a:lnTo>
                        <a:pt x="606" y="15"/>
                      </a:lnTo>
                      <a:lnTo>
                        <a:pt x="691" y="66"/>
                      </a:lnTo>
                      <a:lnTo>
                        <a:pt x="704" y="118"/>
                      </a:lnTo>
                      <a:lnTo>
                        <a:pt x="696" y="182"/>
                      </a:lnTo>
                      <a:lnTo>
                        <a:pt x="657" y="241"/>
                      </a:lnTo>
                      <a:lnTo>
                        <a:pt x="615" y="271"/>
                      </a:lnTo>
                      <a:lnTo>
                        <a:pt x="542" y="305"/>
                      </a:lnTo>
                      <a:lnTo>
                        <a:pt x="474" y="356"/>
                      </a:lnTo>
                      <a:lnTo>
                        <a:pt x="440" y="412"/>
                      </a:lnTo>
                      <a:lnTo>
                        <a:pt x="422" y="514"/>
                      </a:lnTo>
                      <a:lnTo>
                        <a:pt x="448" y="591"/>
                      </a:lnTo>
                      <a:lnTo>
                        <a:pt x="499" y="668"/>
                      </a:lnTo>
                      <a:lnTo>
                        <a:pt x="538" y="779"/>
                      </a:lnTo>
                      <a:lnTo>
                        <a:pt x="542" y="907"/>
                      </a:lnTo>
                      <a:lnTo>
                        <a:pt x="516" y="983"/>
                      </a:lnTo>
                      <a:lnTo>
                        <a:pt x="452" y="1035"/>
                      </a:lnTo>
                      <a:lnTo>
                        <a:pt x="376" y="1047"/>
                      </a:lnTo>
                      <a:lnTo>
                        <a:pt x="260" y="1013"/>
                      </a:lnTo>
                      <a:lnTo>
                        <a:pt x="158" y="937"/>
                      </a:lnTo>
                      <a:lnTo>
                        <a:pt x="90" y="843"/>
                      </a:lnTo>
                      <a:lnTo>
                        <a:pt x="26" y="693"/>
                      </a:lnTo>
                      <a:lnTo>
                        <a:pt x="0" y="510"/>
                      </a:lnTo>
                      <a:lnTo>
                        <a:pt x="17" y="348"/>
                      </a:lnTo>
                      <a:lnTo>
                        <a:pt x="64" y="207"/>
                      </a:lnTo>
                      <a:lnTo>
                        <a:pt x="128" y="126"/>
                      </a:lnTo>
                      <a:lnTo>
                        <a:pt x="19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618320" y="5540400"/>
                  <a:ext cx="414360" cy="636480"/>
                </a:xfrm>
                <a:custGeom>
                  <a:avLst/>
                  <a:gdLst/>
                  <a:ahLst/>
                  <a:rect l="l" t="t" r="r" b="b"/>
                  <a:pathLst>
                    <a:path w="783" h="1203">
                      <a:moveTo>
                        <a:pt x="683" y="260"/>
                      </a:moveTo>
                      <a:lnTo>
                        <a:pt x="602" y="158"/>
                      </a:lnTo>
                      <a:lnTo>
                        <a:pt x="491" y="13"/>
                      </a:lnTo>
                      <a:lnTo>
                        <a:pt x="401" y="0"/>
                      </a:lnTo>
                      <a:lnTo>
                        <a:pt x="337" y="13"/>
                      </a:lnTo>
                      <a:lnTo>
                        <a:pt x="320" y="77"/>
                      </a:lnTo>
                      <a:lnTo>
                        <a:pt x="363" y="171"/>
                      </a:lnTo>
                      <a:lnTo>
                        <a:pt x="499" y="286"/>
                      </a:lnTo>
                      <a:lnTo>
                        <a:pt x="619" y="400"/>
                      </a:lnTo>
                      <a:lnTo>
                        <a:pt x="670" y="459"/>
                      </a:lnTo>
                      <a:lnTo>
                        <a:pt x="670" y="489"/>
                      </a:lnTo>
                      <a:lnTo>
                        <a:pt x="632" y="562"/>
                      </a:lnTo>
                      <a:lnTo>
                        <a:pt x="542" y="643"/>
                      </a:lnTo>
                      <a:lnTo>
                        <a:pt x="427" y="694"/>
                      </a:lnTo>
                      <a:lnTo>
                        <a:pt x="299" y="720"/>
                      </a:lnTo>
                      <a:lnTo>
                        <a:pt x="179" y="741"/>
                      </a:lnTo>
                      <a:lnTo>
                        <a:pt x="107" y="754"/>
                      </a:lnTo>
                      <a:lnTo>
                        <a:pt x="38" y="745"/>
                      </a:lnTo>
                      <a:lnTo>
                        <a:pt x="0" y="771"/>
                      </a:lnTo>
                      <a:lnTo>
                        <a:pt x="0" y="821"/>
                      </a:lnTo>
                      <a:lnTo>
                        <a:pt x="26" y="842"/>
                      </a:lnTo>
                      <a:lnTo>
                        <a:pt x="179" y="893"/>
                      </a:lnTo>
                      <a:lnTo>
                        <a:pt x="307" y="970"/>
                      </a:lnTo>
                      <a:lnTo>
                        <a:pt x="414" y="1089"/>
                      </a:lnTo>
                      <a:lnTo>
                        <a:pt x="448" y="1153"/>
                      </a:lnTo>
                      <a:lnTo>
                        <a:pt x="461" y="1200"/>
                      </a:lnTo>
                      <a:lnTo>
                        <a:pt x="512" y="1203"/>
                      </a:lnTo>
                      <a:lnTo>
                        <a:pt x="593" y="1179"/>
                      </a:lnTo>
                      <a:lnTo>
                        <a:pt x="589" y="1115"/>
                      </a:lnTo>
                      <a:lnTo>
                        <a:pt x="504" y="1021"/>
                      </a:lnTo>
                      <a:lnTo>
                        <a:pt x="397" y="936"/>
                      </a:lnTo>
                      <a:lnTo>
                        <a:pt x="307" y="885"/>
                      </a:lnTo>
                      <a:lnTo>
                        <a:pt x="209" y="846"/>
                      </a:lnTo>
                      <a:lnTo>
                        <a:pt x="141" y="821"/>
                      </a:lnTo>
                      <a:lnTo>
                        <a:pt x="145" y="808"/>
                      </a:lnTo>
                      <a:lnTo>
                        <a:pt x="286" y="792"/>
                      </a:lnTo>
                      <a:lnTo>
                        <a:pt x="427" y="767"/>
                      </a:lnTo>
                      <a:lnTo>
                        <a:pt x="555" y="728"/>
                      </a:lnTo>
                      <a:lnTo>
                        <a:pt x="632" y="694"/>
                      </a:lnTo>
                      <a:lnTo>
                        <a:pt x="717" y="613"/>
                      </a:lnTo>
                      <a:lnTo>
                        <a:pt x="760" y="523"/>
                      </a:lnTo>
                      <a:lnTo>
                        <a:pt x="783" y="438"/>
                      </a:lnTo>
                      <a:lnTo>
                        <a:pt x="768" y="371"/>
                      </a:lnTo>
                      <a:lnTo>
                        <a:pt x="721" y="320"/>
                      </a:lnTo>
                      <a:lnTo>
                        <a:pt x="683" y="2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962840" y="5491080"/>
                  <a:ext cx="346320" cy="671760"/>
                </a:xfrm>
                <a:custGeom>
                  <a:avLst/>
                  <a:gdLst/>
                  <a:ahLst/>
                  <a:rect l="l" t="t" r="r" b="b"/>
                  <a:pathLst>
                    <a:path w="654" h="1267">
                      <a:moveTo>
                        <a:pt x="81" y="0"/>
                      </a:moveTo>
                      <a:lnTo>
                        <a:pt x="4" y="3"/>
                      </a:lnTo>
                      <a:lnTo>
                        <a:pt x="0" y="62"/>
                      </a:lnTo>
                      <a:lnTo>
                        <a:pt x="25" y="126"/>
                      </a:lnTo>
                      <a:lnTo>
                        <a:pt x="89" y="203"/>
                      </a:lnTo>
                      <a:lnTo>
                        <a:pt x="153" y="284"/>
                      </a:lnTo>
                      <a:lnTo>
                        <a:pt x="220" y="462"/>
                      </a:lnTo>
                      <a:lnTo>
                        <a:pt x="242" y="586"/>
                      </a:lnTo>
                      <a:lnTo>
                        <a:pt x="233" y="701"/>
                      </a:lnTo>
                      <a:lnTo>
                        <a:pt x="195" y="853"/>
                      </a:lnTo>
                      <a:lnTo>
                        <a:pt x="153" y="985"/>
                      </a:lnTo>
                      <a:lnTo>
                        <a:pt x="115" y="1122"/>
                      </a:lnTo>
                      <a:lnTo>
                        <a:pt x="89" y="1186"/>
                      </a:lnTo>
                      <a:lnTo>
                        <a:pt x="76" y="1250"/>
                      </a:lnTo>
                      <a:lnTo>
                        <a:pt x="106" y="1267"/>
                      </a:lnTo>
                      <a:lnTo>
                        <a:pt x="182" y="1241"/>
                      </a:lnTo>
                      <a:lnTo>
                        <a:pt x="323" y="1215"/>
                      </a:lnTo>
                      <a:lnTo>
                        <a:pt x="451" y="1228"/>
                      </a:lnTo>
                      <a:lnTo>
                        <a:pt x="577" y="1267"/>
                      </a:lnTo>
                      <a:lnTo>
                        <a:pt x="603" y="1262"/>
                      </a:lnTo>
                      <a:lnTo>
                        <a:pt x="654" y="1186"/>
                      </a:lnTo>
                      <a:lnTo>
                        <a:pt x="654" y="1151"/>
                      </a:lnTo>
                      <a:lnTo>
                        <a:pt x="547" y="1134"/>
                      </a:lnTo>
                      <a:lnTo>
                        <a:pt x="412" y="1134"/>
                      </a:lnTo>
                      <a:lnTo>
                        <a:pt x="284" y="1160"/>
                      </a:lnTo>
                      <a:lnTo>
                        <a:pt x="165" y="1198"/>
                      </a:lnTo>
                      <a:lnTo>
                        <a:pt x="153" y="1177"/>
                      </a:lnTo>
                      <a:lnTo>
                        <a:pt x="178" y="1122"/>
                      </a:lnTo>
                      <a:lnTo>
                        <a:pt x="246" y="959"/>
                      </a:lnTo>
                      <a:lnTo>
                        <a:pt x="293" y="795"/>
                      </a:lnTo>
                      <a:lnTo>
                        <a:pt x="318" y="649"/>
                      </a:lnTo>
                      <a:lnTo>
                        <a:pt x="318" y="573"/>
                      </a:lnTo>
                      <a:lnTo>
                        <a:pt x="306" y="458"/>
                      </a:lnTo>
                      <a:lnTo>
                        <a:pt x="271" y="348"/>
                      </a:lnTo>
                      <a:lnTo>
                        <a:pt x="242" y="271"/>
                      </a:lnTo>
                      <a:lnTo>
                        <a:pt x="195" y="169"/>
                      </a:lnTo>
                      <a:lnTo>
                        <a:pt x="145" y="49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6164280" y="4567320"/>
                <a:ext cx="1266840" cy="1290600"/>
              </a:xfrm>
              <a:custGeom>
                <a:avLst/>
                <a:gdLst/>
                <a:ahLst/>
                <a:rect l="l" t="t" r="r" b="b"/>
                <a:pathLst>
                  <a:path w="798" h="813">
                    <a:moveTo>
                      <a:pt x="39" y="396"/>
                    </a:moveTo>
                    <a:lnTo>
                      <a:pt x="45" y="369"/>
                    </a:lnTo>
                    <a:lnTo>
                      <a:pt x="24" y="354"/>
                    </a:lnTo>
                    <a:lnTo>
                      <a:pt x="0" y="294"/>
                    </a:lnTo>
                    <a:lnTo>
                      <a:pt x="15" y="246"/>
                    </a:lnTo>
                    <a:lnTo>
                      <a:pt x="45" y="228"/>
                    </a:lnTo>
                    <a:lnTo>
                      <a:pt x="30" y="183"/>
                    </a:lnTo>
                    <a:lnTo>
                      <a:pt x="36" y="147"/>
                    </a:lnTo>
                    <a:lnTo>
                      <a:pt x="102" y="72"/>
                    </a:lnTo>
                    <a:lnTo>
                      <a:pt x="129" y="33"/>
                    </a:lnTo>
                    <a:lnTo>
                      <a:pt x="144" y="12"/>
                    </a:lnTo>
                    <a:lnTo>
                      <a:pt x="183" y="0"/>
                    </a:lnTo>
                    <a:lnTo>
                      <a:pt x="222" y="15"/>
                    </a:lnTo>
                    <a:lnTo>
                      <a:pt x="249" y="39"/>
                    </a:lnTo>
                    <a:lnTo>
                      <a:pt x="267" y="66"/>
                    </a:lnTo>
                    <a:lnTo>
                      <a:pt x="276" y="99"/>
                    </a:lnTo>
                    <a:lnTo>
                      <a:pt x="291" y="63"/>
                    </a:lnTo>
                    <a:lnTo>
                      <a:pt x="309" y="48"/>
                    </a:lnTo>
                    <a:lnTo>
                      <a:pt x="348" y="39"/>
                    </a:lnTo>
                    <a:lnTo>
                      <a:pt x="384" y="39"/>
                    </a:lnTo>
                    <a:lnTo>
                      <a:pt x="423" y="54"/>
                    </a:lnTo>
                    <a:lnTo>
                      <a:pt x="456" y="69"/>
                    </a:lnTo>
                    <a:lnTo>
                      <a:pt x="495" y="78"/>
                    </a:lnTo>
                    <a:lnTo>
                      <a:pt x="513" y="99"/>
                    </a:lnTo>
                    <a:lnTo>
                      <a:pt x="540" y="102"/>
                    </a:lnTo>
                    <a:lnTo>
                      <a:pt x="570" y="96"/>
                    </a:lnTo>
                    <a:lnTo>
                      <a:pt x="588" y="99"/>
                    </a:lnTo>
                    <a:lnTo>
                      <a:pt x="603" y="114"/>
                    </a:lnTo>
                    <a:lnTo>
                      <a:pt x="618" y="126"/>
                    </a:lnTo>
                    <a:lnTo>
                      <a:pt x="636" y="156"/>
                    </a:lnTo>
                    <a:lnTo>
                      <a:pt x="681" y="168"/>
                    </a:lnTo>
                    <a:lnTo>
                      <a:pt x="699" y="177"/>
                    </a:lnTo>
                    <a:lnTo>
                      <a:pt x="732" y="198"/>
                    </a:lnTo>
                    <a:lnTo>
                      <a:pt x="738" y="246"/>
                    </a:lnTo>
                    <a:lnTo>
                      <a:pt x="738" y="273"/>
                    </a:lnTo>
                    <a:lnTo>
                      <a:pt x="756" y="285"/>
                    </a:lnTo>
                    <a:lnTo>
                      <a:pt x="786" y="312"/>
                    </a:lnTo>
                    <a:lnTo>
                      <a:pt x="795" y="348"/>
                    </a:lnTo>
                    <a:lnTo>
                      <a:pt x="789" y="420"/>
                    </a:lnTo>
                    <a:lnTo>
                      <a:pt x="774" y="435"/>
                    </a:lnTo>
                    <a:lnTo>
                      <a:pt x="795" y="450"/>
                    </a:lnTo>
                    <a:lnTo>
                      <a:pt x="798" y="489"/>
                    </a:lnTo>
                    <a:lnTo>
                      <a:pt x="783" y="525"/>
                    </a:lnTo>
                    <a:lnTo>
                      <a:pt x="750" y="537"/>
                    </a:lnTo>
                    <a:lnTo>
                      <a:pt x="684" y="540"/>
                    </a:lnTo>
                    <a:lnTo>
                      <a:pt x="639" y="516"/>
                    </a:lnTo>
                    <a:lnTo>
                      <a:pt x="576" y="474"/>
                    </a:lnTo>
                    <a:lnTo>
                      <a:pt x="609" y="576"/>
                    </a:lnTo>
                    <a:lnTo>
                      <a:pt x="600" y="612"/>
                    </a:lnTo>
                    <a:lnTo>
                      <a:pt x="585" y="624"/>
                    </a:lnTo>
                    <a:lnTo>
                      <a:pt x="534" y="621"/>
                    </a:lnTo>
                    <a:lnTo>
                      <a:pt x="516" y="600"/>
                    </a:lnTo>
                    <a:lnTo>
                      <a:pt x="549" y="690"/>
                    </a:lnTo>
                    <a:lnTo>
                      <a:pt x="537" y="753"/>
                    </a:lnTo>
                    <a:lnTo>
                      <a:pt x="480" y="804"/>
                    </a:lnTo>
                    <a:lnTo>
                      <a:pt x="375" y="813"/>
                    </a:lnTo>
                    <a:lnTo>
                      <a:pt x="312" y="798"/>
                    </a:lnTo>
                    <a:lnTo>
                      <a:pt x="267" y="753"/>
                    </a:lnTo>
                    <a:lnTo>
                      <a:pt x="258" y="696"/>
                    </a:lnTo>
                    <a:lnTo>
                      <a:pt x="231" y="693"/>
                    </a:lnTo>
                    <a:lnTo>
                      <a:pt x="201" y="666"/>
                    </a:lnTo>
                    <a:lnTo>
                      <a:pt x="198" y="621"/>
                    </a:lnTo>
                    <a:lnTo>
                      <a:pt x="207" y="570"/>
                    </a:lnTo>
                    <a:lnTo>
                      <a:pt x="216" y="552"/>
                    </a:lnTo>
                    <a:lnTo>
                      <a:pt x="189" y="552"/>
                    </a:lnTo>
                    <a:lnTo>
                      <a:pt x="168" y="552"/>
                    </a:lnTo>
                    <a:lnTo>
                      <a:pt x="138" y="546"/>
                    </a:lnTo>
                  </a:path>
                </a:pathLst>
              </a:custGeom>
              <a:solidFill>
                <a:srgbClr val="ffffff"/>
              </a:solidFill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6129360" y="4314960"/>
                <a:ext cx="1538280" cy="1550880"/>
                <a:chOff x="6129360" y="4314960"/>
                <a:chExt cx="1538280" cy="15508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551640" y="4842000"/>
                  <a:ext cx="668520" cy="576000"/>
                </a:xfrm>
                <a:custGeom>
                  <a:avLst/>
                  <a:gdLst/>
                  <a:ahLst/>
                  <a:rect l="l" t="t" r="r" b="b"/>
                  <a:pathLst>
                    <a:path w="1263" h="1089">
                      <a:moveTo>
                        <a:pt x="687" y="55"/>
                      </a:moveTo>
                      <a:lnTo>
                        <a:pt x="661" y="94"/>
                      </a:lnTo>
                      <a:lnTo>
                        <a:pt x="589" y="76"/>
                      </a:lnTo>
                      <a:lnTo>
                        <a:pt x="546" y="42"/>
                      </a:lnTo>
                      <a:lnTo>
                        <a:pt x="499" y="30"/>
                      </a:lnTo>
                      <a:lnTo>
                        <a:pt x="418" y="42"/>
                      </a:lnTo>
                      <a:lnTo>
                        <a:pt x="328" y="89"/>
                      </a:lnTo>
                      <a:lnTo>
                        <a:pt x="269" y="145"/>
                      </a:lnTo>
                      <a:lnTo>
                        <a:pt x="243" y="209"/>
                      </a:lnTo>
                      <a:lnTo>
                        <a:pt x="230" y="280"/>
                      </a:lnTo>
                      <a:lnTo>
                        <a:pt x="264" y="369"/>
                      </a:lnTo>
                      <a:lnTo>
                        <a:pt x="320" y="408"/>
                      </a:lnTo>
                      <a:lnTo>
                        <a:pt x="316" y="425"/>
                      </a:lnTo>
                      <a:lnTo>
                        <a:pt x="230" y="433"/>
                      </a:lnTo>
                      <a:lnTo>
                        <a:pt x="141" y="472"/>
                      </a:lnTo>
                      <a:lnTo>
                        <a:pt x="89" y="540"/>
                      </a:lnTo>
                      <a:lnTo>
                        <a:pt x="51" y="625"/>
                      </a:lnTo>
                      <a:lnTo>
                        <a:pt x="51" y="694"/>
                      </a:lnTo>
                      <a:lnTo>
                        <a:pt x="77" y="732"/>
                      </a:lnTo>
                      <a:lnTo>
                        <a:pt x="124" y="740"/>
                      </a:lnTo>
                      <a:lnTo>
                        <a:pt x="200" y="719"/>
                      </a:lnTo>
                      <a:lnTo>
                        <a:pt x="226" y="702"/>
                      </a:lnTo>
                      <a:lnTo>
                        <a:pt x="205" y="728"/>
                      </a:lnTo>
                      <a:lnTo>
                        <a:pt x="175" y="809"/>
                      </a:lnTo>
                      <a:lnTo>
                        <a:pt x="175" y="846"/>
                      </a:lnTo>
                      <a:lnTo>
                        <a:pt x="213" y="884"/>
                      </a:lnTo>
                      <a:lnTo>
                        <a:pt x="277" y="884"/>
                      </a:lnTo>
                      <a:lnTo>
                        <a:pt x="277" y="922"/>
                      </a:lnTo>
                      <a:lnTo>
                        <a:pt x="294" y="995"/>
                      </a:lnTo>
                      <a:lnTo>
                        <a:pt x="346" y="1025"/>
                      </a:lnTo>
                      <a:lnTo>
                        <a:pt x="435" y="1046"/>
                      </a:lnTo>
                      <a:lnTo>
                        <a:pt x="512" y="1046"/>
                      </a:lnTo>
                      <a:lnTo>
                        <a:pt x="589" y="999"/>
                      </a:lnTo>
                      <a:lnTo>
                        <a:pt x="623" y="948"/>
                      </a:lnTo>
                      <a:lnTo>
                        <a:pt x="640" y="884"/>
                      </a:lnTo>
                      <a:lnTo>
                        <a:pt x="640" y="820"/>
                      </a:lnTo>
                      <a:lnTo>
                        <a:pt x="636" y="758"/>
                      </a:lnTo>
                      <a:lnTo>
                        <a:pt x="589" y="706"/>
                      </a:lnTo>
                      <a:lnTo>
                        <a:pt x="559" y="638"/>
                      </a:lnTo>
                      <a:lnTo>
                        <a:pt x="572" y="625"/>
                      </a:lnTo>
                      <a:lnTo>
                        <a:pt x="623" y="655"/>
                      </a:lnTo>
                      <a:lnTo>
                        <a:pt x="661" y="681"/>
                      </a:lnTo>
                      <a:lnTo>
                        <a:pt x="725" y="694"/>
                      </a:lnTo>
                      <a:lnTo>
                        <a:pt x="781" y="694"/>
                      </a:lnTo>
                      <a:lnTo>
                        <a:pt x="832" y="655"/>
                      </a:lnTo>
                      <a:lnTo>
                        <a:pt x="845" y="578"/>
                      </a:lnTo>
                      <a:lnTo>
                        <a:pt x="828" y="527"/>
                      </a:lnTo>
                      <a:lnTo>
                        <a:pt x="777" y="476"/>
                      </a:lnTo>
                      <a:lnTo>
                        <a:pt x="717" y="412"/>
                      </a:lnTo>
                      <a:lnTo>
                        <a:pt x="636" y="361"/>
                      </a:lnTo>
                      <a:lnTo>
                        <a:pt x="576" y="344"/>
                      </a:lnTo>
                      <a:lnTo>
                        <a:pt x="538" y="335"/>
                      </a:lnTo>
                      <a:lnTo>
                        <a:pt x="572" y="310"/>
                      </a:lnTo>
                      <a:lnTo>
                        <a:pt x="738" y="271"/>
                      </a:lnTo>
                      <a:lnTo>
                        <a:pt x="845" y="230"/>
                      </a:lnTo>
                      <a:lnTo>
                        <a:pt x="986" y="158"/>
                      </a:lnTo>
                      <a:lnTo>
                        <a:pt x="1058" y="119"/>
                      </a:lnTo>
                      <a:lnTo>
                        <a:pt x="1063" y="153"/>
                      </a:lnTo>
                      <a:lnTo>
                        <a:pt x="909" y="221"/>
                      </a:lnTo>
                      <a:lnTo>
                        <a:pt x="815" y="271"/>
                      </a:lnTo>
                      <a:lnTo>
                        <a:pt x="713" y="335"/>
                      </a:lnTo>
                      <a:lnTo>
                        <a:pt x="738" y="374"/>
                      </a:lnTo>
                      <a:lnTo>
                        <a:pt x="935" y="485"/>
                      </a:lnTo>
                      <a:lnTo>
                        <a:pt x="1114" y="574"/>
                      </a:lnTo>
                      <a:lnTo>
                        <a:pt x="1263" y="625"/>
                      </a:lnTo>
                      <a:lnTo>
                        <a:pt x="1250" y="638"/>
                      </a:lnTo>
                      <a:lnTo>
                        <a:pt x="1020" y="561"/>
                      </a:lnTo>
                      <a:lnTo>
                        <a:pt x="871" y="510"/>
                      </a:lnTo>
                      <a:lnTo>
                        <a:pt x="858" y="527"/>
                      </a:lnTo>
                      <a:lnTo>
                        <a:pt x="883" y="587"/>
                      </a:lnTo>
                      <a:lnTo>
                        <a:pt x="883" y="655"/>
                      </a:lnTo>
                      <a:lnTo>
                        <a:pt x="854" y="728"/>
                      </a:lnTo>
                      <a:lnTo>
                        <a:pt x="781" y="745"/>
                      </a:lnTo>
                      <a:lnTo>
                        <a:pt x="700" y="745"/>
                      </a:lnTo>
                      <a:lnTo>
                        <a:pt x="678" y="745"/>
                      </a:lnTo>
                      <a:lnTo>
                        <a:pt x="704" y="829"/>
                      </a:lnTo>
                      <a:lnTo>
                        <a:pt x="687" y="910"/>
                      </a:lnTo>
                      <a:lnTo>
                        <a:pt x="649" y="1008"/>
                      </a:lnTo>
                      <a:lnTo>
                        <a:pt x="572" y="1076"/>
                      </a:lnTo>
                      <a:lnTo>
                        <a:pt x="482" y="1089"/>
                      </a:lnTo>
                      <a:lnTo>
                        <a:pt x="354" y="1085"/>
                      </a:lnTo>
                      <a:lnTo>
                        <a:pt x="294" y="1050"/>
                      </a:lnTo>
                      <a:lnTo>
                        <a:pt x="256" y="1008"/>
                      </a:lnTo>
                      <a:lnTo>
                        <a:pt x="243" y="944"/>
                      </a:lnTo>
                      <a:lnTo>
                        <a:pt x="243" y="922"/>
                      </a:lnTo>
                      <a:lnTo>
                        <a:pt x="166" y="922"/>
                      </a:lnTo>
                      <a:lnTo>
                        <a:pt x="141" y="884"/>
                      </a:lnTo>
                      <a:lnTo>
                        <a:pt x="141" y="846"/>
                      </a:lnTo>
                      <a:lnTo>
                        <a:pt x="141" y="804"/>
                      </a:lnTo>
                      <a:lnTo>
                        <a:pt x="153" y="766"/>
                      </a:lnTo>
                      <a:lnTo>
                        <a:pt x="98" y="770"/>
                      </a:lnTo>
                      <a:lnTo>
                        <a:pt x="25" y="745"/>
                      </a:lnTo>
                      <a:lnTo>
                        <a:pt x="8" y="689"/>
                      </a:lnTo>
                      <a:lnTo>
                        <a:pt x="0" y="612"/>
                      </a:lnTo>
                      <a:lnTo>
                        <a:pt x="25" y="540"/>
                      </a:lnTo>
                      <a:lnTo>
                        <a:pt x="77" y="476"/>
                      </a:lnTo>
                      <a:lnTo>
                        <a:pt x="128" y="438"/>
                      </a:lnTo>
                      <a:lnTo>
                        <a:pt x="188" y="399"/>
                      </a:lnTo>
                      <a:lnTo>
                        <a:pt x="239" y="399"/>
                      </a:lnTo>
                      <a:lnTo>
                        <a:pt x="205" y="331"/>
                      </a:lnTo>
                      <a:lnTo>
                        <a:pt x="200" y="280"/>
                      </a:lnTo>
                      <a:lnTo>
                        <a:pt x="205" y="230"/>
                      </a:lnTo>
                      <a:lnTo>
                        <a:pt x="230" y="153"/>
                      </a:lnTo>
                      <a:lnTo>
                        <a:pt x="269" y="81"/>
                      </a:lnTo>
                      <a:lnTo>
                        <a:pt x="333" y="42"/>
                      </a:lnTo>
                      <a:lnTo>
                        <a:pt x="435" y="0"/>
                      </a:lnTo>
                      <a:lnTo>
                        <a:pt x="550" y="4"/>
                      </a:lnTo>
                      <a:lnTo>
                        <a:pt x="636" y="12"/>
                      </a:lnTo>
                      <a:lnTo>
                        <a:pt x="674" y="30"/>
                      </a:lnTo>
                      <a:lnTo>
                        <a:pt x="687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743880" y="5054760"/>
                  <a:ext cx="77760" cy="74520"/>
                </a:xfrm>
                <a:custGeom>
                  <a:avLst/>
                  <a:gdLst/>
                  <a:ahLst/>
                  <a:rect l="l" t="t" r="r" b="b"/>
                  <a:pathLst>
                    <a:path w="147" h="142">
                      <a:moveTo>
                        <a:pt x="5" y="51"/>
                      </a:moveTo>
                      <a:lnTo>
                        <a:pt x="52" y="89"/>
                      </a:lnTo>
                      <a:lnTo>
                        <a:pt x="64" y="128"/>
                      </a:lnTo>
                      <a:lnTo>
                        <a:pt x="94" y="142"/>
                      </a:lnTo>
                      <a:lnTo>
                        <a:pt x="103" y="102"/>
                      </a:lnTo>
                      <a:lnTo>
                        <a:pt x="147" y="76"/>
                      </a:lnTo>
                      <a:lnTo>
                        <a:pt x="103" y="47"/>
                      </a:lnTo>
                      <a:lnTo>
                        <a:pt x="107" y="0"/>
                      </a:lnTo>
                      <a:lnTo>
                        <a:pt x="64" y="12"/>
                      </a:lnTo>
                      <a:lnTo>
                        <a:pt x="0" y="21"/>
                      </a:lnTo>
                      <a:lnTo>
                        <a:pt x="5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966000" y="4687920"/>
                  <a:ext cx="476280" cy="745920"/>
                </a:xfrm>
                <a:custGeom>
                  <a:avLst/>
                  <a:gdLst/>
                  <a:ahLst/>
                  <a:rect l="l" t="t" r="r" b="b"/>
                  <a:pathLst>
                    <a:path w="898" h="1409">
                      <a:moveTo>
                        <a:pt x="309" y="81"/>
                      </a:moveTo>
                      <a:lnTo>
                        <a:pt x="245" y="51"/>
                      </a:lnTo>
                      <a:lnTo>
                        <a:pt x="96" y="26"/>
                      </a:lnTo>
                      <a:lnTo>
                        <a:pt x="44" y="56"/>
                      </a:lnTo>
                      <a:lnTo>
                        <a:pt x="0" y="94"/>
                      </a:lnTo>
                      <a:lnTo>
                        <a:pt x="0" y="141"/>
                      </a:lnTo>
                      <a:lnTo>
                        <a:pt x="40" y="154"/>
                      </a:lnTo>
                      <a:lnTo>
                        <a:pt x="91" y="115"/>
                      </a:lnTo>
                      <a:lnTo>
                        <a:pt x="142" y="77"/>
                      </a:lnTo>
                      <a:lnTo>
                        <a:pt x="194" y="77"/>
                      </a:lnTo>
                      <a:lnTo>
                        <a:pt x="245" y="103"/>
                      </a:lnTo>
                      <a:lnTo>
                        <a:pt x="288" y="141"/>
                      </a:lnTo>
                      <a:lnTo>
                        <a:pt x="288" y="158"/>
                      </a:lnTo>
                      <a:lnTo>
                        <a:pt x="211" y="260"/>
                      </a:lnTo>
                      <a:lnTo>
                        <a:pt x="198" y="324"/>
                      </a:lnTo>
                      <a:lnTo>
                        <a:pt x="224" y="350"/>
                      </a:lnTo>
                      <a:lnTo>
                        <a:pt x="271" y="320"/>
                      </a:lnTo>
                      <a:lnTo>
                        <a:pt x="300" y="256"/>
                      </a:lnTo>
                      <a:lnTo>
                        <a:pt x="326" y="231"/>
                      </a:lnTo>
                      <a:lnTo>
                        <a:pt x="364" y="260"/>
                      </a:lnTo>
                      <a:lnTo>
                        <a:pt x="399" y="273"/>
                      </a:lnTo>
                      <a:lnTo>
                        <a:pt x="488" y="282"/>
                      </a:lnTo>
                      <a:lnTo>
                        <a:pt x="578" y="312"/>
                      </a:lnTo>
                      <a:lnTo>
                        <a:pt x="629" y="357"/>
                      </a:lnTo>
                      <a:lnTo>
                        <a:pt x="659" y="400"/>
                      </a:lnTo>
                      <a:lnTo>
                        <a:pt x="672" y="451"/>
                      </a:lnTo>
                      <a:lnTo>
                        <a:pt x="668" y="498"/>
                      </a:lnTo>
                      <a:lnTo>
                        <a:pt x="659" y="536"/>
                      </a:lnTo>
                      <a:lnTo>
                        <a:pt x="629" y="553"/>
                      </a:lnTo>
                      <a:lnTo>
                        <a:pt x="557" y="566"/>
                      </a:lnTo>
                      <a:lnTo>
                        <a:pt x="475" y="587"/>
                      </a:lnTo>
                      <a:lnTo>
                        <a:pt x="475" y="604"/>
                      </a:lnTo>
                      <a:lnTo>
                        <a:pt x="582" y="604"/>
                      </a:lnTo>
                      <a:lnTo>
                        <a:pt x="706" y="626"/>
                      </a:lnTo>
                      <a:lnTo>
                        <a:pt x="787" y="677"/>
                      </a:lnTo>
                      <a:lnTo>
                        <a:pt x="834" y="745"/>
                      </a:lnTo>
                      <a:lnTo>
                        <a:pt x="851" y="882"/>
                      </a:lnTo>
                      <a:lnTo>
                        <a:pt x="834" y="997"/>
                      </a:lnTo>
                      <a:lnTo>
                        <a:pt x="800" y="1035"/>
                      </a:lnTo>
                      <a:lnTo>
                        <a:pt x="761" y="1064"/>
                      </a:lnTo>
                      <a:lnTo>
                        <a:pt x="736" y="1085"/>
                      </a:lnTo>
                      <a:lnTo>
                        <a:pt x="800" y="1102"/>
                      </a:lnTo>
                      <a:lnTo>
                        <a:pt x="847" y="1149"/>
                      </a:lnTo>
                      <a:lnTo>
                        <a:pt x="860" y="1217"/>
                      </a:lnTo>
                      <a:lnTo>
                        <a:pt x="838" y="1303"/>
                      </a:lnTo>
                      <a:lnTo>
                        <a:pt x="796" y="1341"/>
                      </a:lnTo>
                      <a:lnTo>
                        <a:pt x="723" y="1379"/>
                      </a:lnTo>
                      <a:lnTo>
                        <a:pt x="621" y="1379"/>
                      </a:lnTo>
                      <a:lnTo>
                        <a:pt x="514" y="1345"/>
                      </a:lnTo>
                      <a:lnTo>
                        <a:pt x="441" y="1290"/>
                      </a:lnTo>
                      <a:lnTo>
                        <a:pt x="386" y="1251"/>
                      </a:lnTo>
                      <a:lnTo>
                        <a:pt x="360" y="1320"/>
                      </a:lnTo>
                      <a:lnTo>
                        <a:pt x="390" y="1367"/>
                      </a:lnTo>
                      <a:lnTo>
                        <a:pt x="578" y="1405"/>
                      </a:lnTo>
                      <a:lnTo>
                        <a:pt x="719" y="1409"/>
                      </a:lnTo>
                      <a:lnTo>
                        <a:pt x="821" y="1371"/>
                      </a:lnTo>
                      <a:lnTo>
                        <a:pt x="872" y="1315"/>
                      </a:lnTo>
                      <a:lnTo>
                        <a:pt x="898" y="1243"/>
                      </a:lnTo>
                      <a:lnTo>
                        <a:pt x="889" y="1153"/>
                      </a:lnTo>
                      <a:lnTo>
                        <a:pt x="872" y="1089"/>
                      </a:lnTo>
                      <a:lnTo>
                        <a:pt x="847" y="1064"/>
                      </a:lnTo>
                      <a:lnTo>
                        <a:pt x="864" y="1010"/>
                      </a:lnTo>
                      <a:lnTo>
                        <a:pt x="885" y="907"/>
                      </a:lnTo>
                      <a:lnTo>
                        <a:pt x="877" y="758"/>
                      </a:lnTo>
                      <a:lnTo>
                        <a:pt x="838" y="677"/>
                      </a:lnTo>
                      <a:lnTo>
                        <a:pt x="774" y="604"/>
                      </a:lnTo>
                      <a:lnTo>
                        <a:pt x="706" y="553"/>
                      </a:lnTo>
                      <a:lnTo>
                        <a:pt x="723" y="472"/>
                      </a:lnTo>
                      <a:lnTo>
                        <a:pt x="693" y="350"/>
                      </a:lnTo>
                      <a:lnTo>
                        <a:pt x="616" y="286"/>
                      </a:lnTo>
                      <a:lnTo>
                        <a:pt x="539" y="260"/>
                      </a:lnTo>
                      <a:lnTo>
                        <a:pt x="454" y="231"/>
                      </a:lnTo>
                      <a:lnTo>
                        <a:pt x="399" y="218"/>
                      </a:lnTo>
                      <a:lnTo>
                        <a:pt x="364" y="179"/>
                      </a:lnTo>
                      <a:lnTo>
                        <a:pt x="364" y="154"/>
                      </a:lnTo>
                      <a:lnTo>
                        <a:pt x="437" y="0"/>
                      </a:lnTo>
                      <a:lnTo>
                        <a:pt x="326" y="107"/>
                      </a:lnTo>
                      <a:lnTo>
                        <a:pt x="309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02680" y="4776840"/>
                  <a:ext cx="126720" cy="77760"/>
                </a:xfrm>
                <a:custGeom>
                  <a:avLst/>
                  <a:gdLst/>
                  <a:ahLst/>
                  <a:rect l="l" t="t" r="r" b="b"/>
                  <a:pathLst>
                    <a:path w="242" h="147">
                      <a:moveTo>
                        <a:pt x="25" y="126"/>
                      </a:moveTo>
                      <a:lnTo>
                        <a:pt x="209" y="0"/>
                      </a:lnTo>
                      <a:lnTo>
                        <a:pt x="242" y="13"/>
                      </a:lnTo>
                      <a:lnTo>
                        <a:pt x="234" y="46"/>
                      </a:lnTo>
                      <a:lnTo>
                        <a:pt x="0" y="147"/>
                      </a:lnTo>
                      <a:lnTo>
                        <a:pt x="25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170840" y="5640480"/>
                  <a:ext cx="123840" cy="204840"/>
                </a:xfrm>
                <a:custGeom>
                  <a:avLst/>
                  <a:gdLst/>
                  <a:ahLst/>
                  <a:rect l="l" t="t" r="r" b="b"/>
                  <a:pathLst>
                    <a:path w="234" h="388">
                      <a:moveTo>
                        <a:pt x="234" y="388"/>
                      </a:moveTo>
                      <a:lnTo>
                        <a:pt x="145" y="141"/>
                      </a:lnTo>
                      <a:lnTo>
                        <a:pt x="51" y="0"/>
                      </a:lnTo>
                      <a:lnTo>
                        <a:pt x="13" y="0"/>
                      </a:lnTo>
                      <a:lnTo>
                        <a:pt x="0" y="38"/>
                      </a:lnTo>
                      <a:lnTo>
                        <a:pt x="77" y="128"/>
                      </a:lnTo>
                      <a:lnTo>
                        <a:pt x="154" y="247"/>
                      </a:lnTo>
                      <a:lnTo>
                        <a:pt x="234" y="3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469200" y="5315040"/>
                  <a:ext cx="668160" cy="550800"/>
                </a:xfrm>
                <a:custGeom>
                  <a:avLst/>
                  <a:gdLst/>
                  <a:ahLst/>
                  <a:rect l="l" t="t" r="r" b="b"/>
                  <a:pathLst>
                    <a:path w="1263" h="1042">
                      <a:moveTo>
                        <a:pt x="1149" y="0"/>
                      </a:moveTo>
                      <a:lnTo>
                        <a:pt x="1226" y="145"/>
                      </a:lnTo>
                      <a:lnTo>
                        <a:pt x="1243" y="243"/>
                      </a:lnTo>
                      <a:lnTo>
                        <a:pt x="1263" y="349"/>
                      </a:lnTo>
                      <a:lnTo>
                        <a:pt x="1243" y="452"/>
                      </a:lnTo>
                      <a:lnTo>
                        <a:pt x="1188" y="490"/>
                      </a:lnTo>
                      <a:lnTo>
                        <a:pt x="1115" y="503"/>
                      </a:lnTo>
                      <a:lnTo>
                        <a:pt x="1038" y="486"/>
                      </a:lnTo>
                      <a:lnTo>
                        <a:pt x="1073" y="580"/>
                      </a:lnTo>
                      <a:lnTo>
                        <a:pt x="1077" y="742"/>
                      </a:lnTo>
                      <a:lnTo>
                        <a:pt x="1060" y="848"/>
                      </a:lnTo>
                      <a:lnTo>
                        <a:pt x="1000" y="925"/>
                      </a:lnTo>
                      <a:lnTo>
                        <a:pt x="936" y="972"/>
                      </a:lnTo>
                      <a:lnTo>
                        <a:pt x="872" y="1015"/>
                      </a:lnTo>
                      <a:lnTo>
                        <a:pt x="779" y="1036"/>
                      </a:lnTo>
                      <a:lnTo>
                        <a:pt x="617" y="1042"/>
                      </a:lnTo>
                      <a:lnTo>
                        <a:pt x="489" y="1042"/>
                      </a:lnTo>
                      <a:lnTo>
                        <a:pt x="363" y="1015"/>
                      </a:lnTo>
                      <a:lnTo>
                        <a:pt x="260" y="938"/>
                      </a:lnTo>
                      <a:lnTo>
                        <a:pt x="217" y="857"/>
                      </a:lnTo>
                      <a:lnTo>
                        <a:pt x="196" y="759"/>
                      </a:lnTo>
                      <a:lnTo>
                        <a:pt x="119" y="720"/>
                      </a:lnTo>
                      <a:lnTo>
                        <a:pt x="42" y="652"/>
                      </a:lnTo>
                      <a:lnTo>
                        <a:pt x="17" y="580"/>
                      </a:lnTo>
                      <a:lnTo>
                        <a:pt x="0" y="490"/>
                      </a:lnTo>
                      <a:lnTo>
                        <a:pt x="0" y="388"/>
                      </a:lnTo>
                      <a:lnTo>
                        <a:pt x="38" y="268"/>
                      </a:lnTo>
                      <a:lnTo>
                        <a:pt x="102" y="268"/>
                      </a:lnTo>
                      <a:lnTo>
                        <a:pt x="115" y="307"/>
                      </a:lnTo>
                      <a:lnTo>
                        <a:pt x="89" y="349"/>
                      </a:lnTo>
                      <a:lnTo>
                        <a:pt x="55" y="401"/>
                      </a:lnTo>
                      <a:lnTo>
                        <a:pt x="42" y="516"/>
                      </a:lnTo>
                      <a:lnTo>
                        <a:pt x="55" y="588"/>
                      </a:lnTo>
                      <a:lnTo>
                        <a:pt x="115" y="652"/>
                      </a:lnTo>
                      <a:lnTo>
                        <a:pt x="179" y="652"/>
                      </a:lnTo>
                      <a:lnTo>
                        <a:pt x="256" y="627"/>
                      </a:lnTo>
                      <a:lnTo>
                        <a:pt x="358" y="563"/>
                      </a:lnTo>
                      <a:lnTo>
                        <a:pt x="345" y="614"/>
                      </a:lnTo>
                      <a:lnTo>
                        <a:pt x="234" y="691"/>
                      </a:lnTo>
                      <a:lnTo>
                        <a:pt x="222" y="746"/>
                      </a:lnTo>
                      <a:lnTo>
                        <a:pt x="247" y="806"/>
                      </a:lnTo>
                      <a:lnTo>
                        <a:pt x="273" y="874"/>
                      </a:lnTo>
                      <a:lnTo>
                        <a:pt x="337" y="951"/>
                      </a:lnTo>
                      <a:lnTo>
                        <a:pt x="438" y="985"/>
                      </a:lnTo>
                      <a:lnTo>
                        <a:pt x="502" y="959"/>
                      </a:lnTo>
                      <a:lnTo>
                        <a:pt x="523" y="908"/>
                      </a:lnTo>
                      <a:lnTo>
                        <a:pt x="549" y="908"/>
                      </a:lnTo>
                      <a:lnTo>
                        <a:pt x="575" y="989"/>
                      </a:lnTo>
                      <a:lnTo>
                        <a:pt x="639" y="1011"/>
                      </a:lnTo>
                      <a:lnTo>
                        <a:pt x="720" y="1011"/>
                      </a:lnTo>
                      <a:lnTo>
                        <a:pt x="809" y="989"/>
                      </a:lnTo>
                      <a:lnTo>
                        <a:pt x="885" y="947"/>
                      </a:lnTo>
                      <a:lnTo>
                        <a:pt x="974" y="895"/>
                      </a:lnTo>
                      <a:lnTo>
                        <a:pt x="1013" y="836"/>
                      </a:lnTo>
                      <a:lnTo>
                        <a:pt x="1026" y="767"/>
                      </a:lnTo>
                      <a:lnTo>
                        <a:pt x="1026" y="682"/>
                      </a:lnTo>
                      <a:lnTo>
                        <a:pt x="1021" y="588"/>
                      </a:lnTo>
                      <a:lnTo>
                        <a:pt x="1009" y="516"/>
                      </a:lnTo>
                      <a:lnTo>
                        <a:pt x="983" y="460"/>
                      </a:lnTo>
                      <a:lnTo>
                        <a:pt x="949" y="375"/>
                      </a:lnTo>
                      <a:lnTo>
                        <a:pt x="970" y="358"/>
                      </a:lnTo>
                      <a:lnTo>
                        <a:pt x="1060" y="435"/>
                      </a:lnTo>
                      <a:lnTo>
                        <a:pt x="1102" y="452"/>
                      </a:lnTo>
                      <a:lnTo>
                        <a:pt x="1154" y="452"/>
                      </a:lnTo>
                      <a:lnTo>
                        <a:pt x="1192" y="426"/>
                      </a:lnTo>
                      <a:lnTo>
                        <a:pt x="1226" y="375"/>
                      </a:lnTo>
                      <a:lnTo>
                        <a:pt x="1218" y="298"/>
                      </a:lnTo>
                      <a:lnTo>
                        <a:pt x="1205" y="221"/>
                      </a:lnTo>
                      <a:lnTo>
                        <a:pt x="1166" y="128"/>
                      </a:lnTo>
                      <a:lnTo>
                        <a:pt x="1137" y="42"/>
                      </a:lnTo>
                      <a:lnTo>
                        <a:pt x="1124" y="0"/>
                      </a:lnTo>
                      <a:lnTo>
                        <a:pt x="11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834240" y="4314960"/>
                  <a:ext cx="122040" cy="260280"/>
                </a:xfrm>
                <a:custGeom>
                  <a:avLst/>
                  <a:gdLst/>
                  <a:ahLst/>
                  <a:rect l="l" t="t" r="r" b="b"/>
                  <a:pathLst>
                    <a:path w="229" h="490">
                      <a:moveTo>
                        <a:pt x="9" y="423"/>
                      </a:moveTo>
                      <a:lnTo>
                        <a:pt x="78" y="222"/>
                      </a:lnTo>
                      <a:lnTo>
                        <a:pt x="155" y="77"/>
                      </a:lnTo>
                      <a:lnTo>
                        <a:pt x="229" y="0"/>
                      </a:lnTo>
                      <a:lnTo>
                        <a:pt x="182" y="107"/>
                      </a:lnTo>
                      <a:lnTo>
                        <a:pt x="117" y="269"/>
                      </a:lnTo>
                      <a:lnTo>
                        <a:pt x="78" y="410"/>
                      </a:lnTo>
                      <a:lnTo>
                        <a:pt x="47" y="478"/>
                      </a:lnTo>
                      <a:lnTo>
                        <a:pt x="9" y="490"/>
                      </a:lnTo>
                      <a:lnTo>
                        <a:pt x="0" y="448"/>
                      </a:lnTo>
                      <a:lnTo>
                        <a:pt x="9" y="4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832800" y="4653000"/>
                  <a:ext cx="55440" cy="39600"/>
                </a:xfrm>
                <a:custGeom>
                  <a:avLst/>
                  <a:gdLst/>
                  <a:ahLst/>
                  <a:rect l="l" t="t" r="r" b="b"/>
                  <a:pathLst>
                    <a:path w="105" h="74">
                      <a:moveTo>
                        <a:pt x="105" y="28"/>
                      </a:moveTo>
                      <a:lnTo>
                        <a:pt x="69" y="0"/>
                      </a:lnTo>
                      <a:lnTo>
                        <a:pt x="12" y="0"/>
                      </a:lnTo>
                      <a:lnTo>
                        <a:pt x="0" y="37"/>
                      </a:lnTo>
                      <a:lnTo>
                        <a:pt x="27" y="74"/>
                      </a:lnTo>
                      <a:lnTo>
                        <a:pt x="79" y="74"/>
                      </a:lnTo>
                      <a:lnTo>
                        <a:pt x="105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224840" y="4383000"/>
                  <a:ext cx="56880" cy="39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607160" y="4505400"/>
                  <a:ext cx="60480" cy="47520"/>
                </a:xfrm>
                <a:custGeom>
                  <a:avLst/>
                  <a:gdLst/>
                  <a:ahLst/>
                  <a:rect l="l" t="t" r="r" b="b"/>
                  <a:pathLst>
                    <a:path w="115" h="91">
                      <a:moveTo>
                        <a:pt x="73" y="13"/>
                      </a:moveTo>
                      <a:lnTo>
                        <a:pt x="38" y="0"/>
                      </a:lnTo>
                      <a:lnTo>
                        <a:pt x="21" y="4"/>
                      </a:lnTo>
                      <a:lnTo>
                        <a:pt x="0" y="55"/>
                      </a:lnTo>
                      <a:lnTo>
                        <a:pt x="38" y="91"/>
                      </a:lnTo>
                      <a:lnTo>
                        <a:pt x="115" y="51"/>
                      </a:lnTo>
                      <a:lnTo>
                        <a:pt x="103" y="25"/>
                      </a:lnTo>
                      <a:lnTo>
                        <a:pt x="7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216920" y="4633920"/>
                  <a:ext cx="39600" cy="39600"/>
                </a:xfrm>
                <a:custGeom>
                  <a:avLst/>
                  <a:gdLst/>
                  <a:ahLst/>
                  <a:rect l="l" t="t" r="r" b="b"/>
                  <a:pathLst>
                    <a:path w="74" h="74">
                      <a:moveTo>
                        <a:pt x="74" y="0"/>
                      </a:moveTo>
                      <a:lnTo>
                        <a:pt x="24" y="10"/>
                      </a:lnTo>
                      <a:lnTo>
                        <a:pt x="0" y="74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129360" y="4562640"/>
                  <a:ext cx="495360" cy="796680"/>
                </a:xfrm>
                <a:custGeom>
                  <a:avLst/>
                  <a:gdLst/>
                  <a:ahLst/>
                  <a:rect l="l" t="t" r="r" b="b"/>
                  <a:pathLst>
                    <a:path w="934" h="1505">
                      <a:moveTo>
                        <a:pt x="150" y="1314"/>
                      </a:moveTo>
                      <a:lnTo>
                        <a:pt x="180" y="1378"/>
                      </a:lnTo>
                      <a:lnTo>
                        <a:pt x="278" y="1493"/>
                      </a:lnTo>
                      <a:lnTo>
                        <a:pt x="333" y="1505"/>
                      </a:lnTo>
                      <a:lnTo>
                        <a:pt x="393" y="1505"/>
                      </a:lnTo>
                      <a:lnTo>
                        <a:pt x="423" y="1467"/>
                      </a:lnTo>
                      <a:lnTo>
                        <a:pt x="402" y="1433"/>
                      </a:lnTo>
                      <a:lnTo>
                        <a:pt x="338" y="1429"/>
                      </a:lnTo>
                      <a:lnTo>
                        <a:pt x="274" y="1424"/>
                      </a:lnTo>
                      <a:lnTo>
                        <a:pt x="235" y="1390"/>
                      </a:lnTo>
                      <a:lnTo>
                        <a:pt x="214" y="1339"/>
                      </a:lnTo>
                      <a:lnTo>
                        <a:pt x="205" y="1279"/>
                      </a:lnTo>
                      <a:lnTo>
                        <a:pt x="218" y="1267"/>
                      </a:lnTo>
                      <a:lnTo>
                        <a:pt x="342" y="1241"/>
                      </a:lnTo>
                      <a:lnTo>
                        <a:pt x="393" y="1203"/>
                      </a:lnTo>
                      <a:lnTo>
                        <a:pt x="393" y="1164"/>
                      </a:lnTo>
                      <a:lnTo>
                        <a:pt x="338" y="1156"/>
                      </a:lnTo>
                      <a:lnTo>
                        <a:pt x="274" y="1186"/>
                      </a:lnTo>
                      <a:lnTo>
                        <a:pt x="235" y="1190"/>
                      </a:lnTo>
                      <a:lnTo>
                        <a:pt x="227" y="1139"/>
                      </a:lnTo>
                      <a:lnTo>
                        <a:pt x="210" y="1109"/>
                      </a:lnTo>
                      <a:lnTo>
                        <a:pt x="150" y="1045"/>
                      </a:lnTo>
                      <a:lnTo>
                        <a:pt x="99" y="964"/>
                      </a:lnTo>
                      <a:lnTo>
                        <a:pt x="94" y="891"/>
                      </a:lnTo>
                      <a:lnTo>
                        <a:pt x="99" y="840"/>
                      </a:lnTo>
                      <a:lnTo>
                        <a:pt x="120" y="793"/>
                      </a:lnTo>
                      <a:lnTo>
                        <a:pt x="154" y="763"/>
                      </a:lnTo>
                      <a:lnTo>
                        <a:pt x="188" y="738"/>
                      </a:lnTo>
                      <a:lnTo>
                        <a:pt x="222" y="746"/>
                      </a:lnTo>
                      <a:lnTo>
                        <a:pt x="282" y="785"/>
                      </a:lnTo>
                      <a:lnTo>
                        <a:pt x="359" y="819"/>
                      </a:lnTo>
                      <a:lnTo>
                        <a:pt x="372" y="806"/>
                      </a:lnTo>
                      <a:lnTo>
                        <a:pt x="291" y="738"/>
                      </a:lnTo>
                      <a:lnTo>
                        <a:pt x="210" y="640"/>
                      </a:lnTo>
                      <a:lnTo>
                        <a:pt x="184" y="546"/>
                      </a:lnTo>
                      <a:lnTo>
                        <a:pt x="193" y="465"/>
                      </a:lnTo>
                      <a:lnTo>
                        <a:pt x="269" y="350"/>
                      </a:lnTo>
                      <a:lnTo>
                        <a:pt x="359" y="277"/>
                      </a:lnTo>
                      <a:lnTo>
                        <a:pt x="410" y="269"/>
                      </a:lnTo>
                      <a:lnTo>
                        <a:pt x="457" y="273"/>
                      </a:lnTo>
                      <a:lnTo>
                        <a:pt x="491" y="273"/>
                      </a:lnTo>
                      <a:lnTo>
                        <a:pt x="453" y="217"/>
                      </a:lnTo>
                      <a:lnTo>
                        <a:pt x="449" y="153"/>
                      </a:lnTo>
                      <a:lnTo>
                        <a:pt x="483" y="89"/>
                      </a:lnTo>
                      <a:lnTo>
                        <a:pt x="555" y="42"/>
                      </a:lnTo>
                      <a:lnTo>
                        <a:pt x="615" y="38"/>
                      </a:lnTo>
                      <a:lnTo>
                        <a:pt x="692" y="59"/>
                      </a:lnTo>
                      <a:lnTo>
                        <a:pt x="769" y="128"/>
                      </a:lnTo>
                      <a:lnTo>
                        <a:pt x="829" y="222"/>
                      </a:lnTo>
                      <a:lnTo>
                        <a:pt x="846" y="311"/>
                      </a:lnTo>
                      <a:lnTo>
                        <a:pt x="863" y="375"/>
                      </a:lnTo>
                      <a:lnTo>
                        <a:pt x="927" y="341"/>
                      </a:lnTo>
                      <a:lnTo>
                        <a:pt x="934" y="286"/>
                      </a:lnTo>
                      <a:lnTo>
                        <a:pt x="820" y="136"/>
                      </a:lnTo>
                      <a:lnTo>
                        <a:pt x="718" y="38"/>
                      </a:lnTo>
                      <a:lnTo>
                        <a:pt x="615" y="0"/>
                      </a:lnTo>
                      <a:lnTo>
                        <a:pt x="538" y="8"/>
                      </a:lnTo>
                      <a:lnTo>
                        <a:pt x="470" y="47"/>
                      </a:lnTo>
                      <a:lnTo>
                        <a:pt x="419" y="119"/>
                      </a:lnTo>
                      <a:lnTo>
                        <a:pt x="389" y="179"/>
                      </a:lnTo>
                      <a:lnTo>
                        <a:pt x="393" y="217"/>
                      </a:lnTo>
                      <a:lnTo>
                        <a:pt x="342" y="247"/>
                      </a:lnTo>
                      <a:lnTo>
                        <a:pt x="261" y="311"/>
                      </a:lnTo>
                      <a:lnTo>
                        <a:pt x="167" y="426"/>
                      </a:lnTo>
                      <a:lnTo>
                        <a:pt x="146" y="516"/>
                      </a:lnTo>
                      <a:lnTo>
                        <a:pt x="146" y="610"/>
                      </a:lnTo>
                      <a:lnTo>
                        <a:pt x="163" y="695"/>
                      </a:lnTo>
                      <a:lnTo>
                        <a:pt x="99" y="746"/>
                      </a:lnTo>
                      <a:lnTo>
                        <a:pt x="39" y="857"/>
                      </a:lnTo>
                      <a:lnTo>
                        <a:pt x="56" y="955"/>
                      </a:lnTo>
                      <a:lnTo>
                        <a:pt x="94" y="1023"/>
                      </a:lnTo>
                      <a:lnTo>
                        <a:pt x="141" y="1105"/>
                      </a:lnTo>
                      <a:lnTo>
                        <a:pt x="175" y="1151"/>
                      </a:lnTo>
                      <a:lnTo>
                        <a:pt x="175" y="1203"/>
                      </a:lnTo>
                      <a:lnTo>
                        <a:pt x="158" y="1220"/>
                      </a:lnTo>
                      <a:lnTo>
                        <a:pt x="0" y="1288"/>
                      </a:lnTo>
                      <a:lnTo>
                        <a:pt x="154" y="1279"/>
                      </a:lnTo>
                      <a:lnTo>
                        <a:pt x="150" y="13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378480" y="4870440"/>
                  <a:ext cx="219240" cy="142920"/>
                </a:xfrm>
                <a:custGeom>
                  <a:avLst/>
                  <a:gdLst/>
                  <a:ahLst/>
                  <a:rect l="l" t="t" r="r" b="b"/>
                  <a:pathLst>
                    <a:path w="413" h="270">
                      <a:moveTo>
                        <a:pt x="404" y="270"/>
                      </a:moveTo>
                      <a:lnTo>
                        <a:pt x="413" y="234"/>
                      </a:lnTo>
                      <a:lnTo>
                        <a:pt x="387" y="196"/>
                      </a:lnTo>
                      <a:lnTo>
                        <a:pt x="206" y="77"/>
                      </a:lnTo>
                      <a:lnTo>
                        <a:pt x="0" y="0"/>
                      </a:lnTo>
                      <a:lnTo>
                        <a:pt x="155" y="102"/>
                      </a:lnTo>
                      <a:lnTo>
                        <a:pt x="283" y="183"/>
                      </a:lnTo>
                      <a:lnTo>
                        <a:pt x="361" y="260"/>
                      </a:lnTo>
                      <a:lnTo>
                        <a:pt x="404" y="2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6275520" y="5353200"/>
                <a:ext cx="164880" cy="88920"/>
              </a:xfrm>
              <a:custGeom>
                <a:avLst/>
                <a:gdLst/>
                <a:ahLst/>
                <a:rect l="l" t="t" r="r" b="b"/>
                <a:pathLst>
                  <a:path w="104" h="56">
                    <a:moveTo>
                      <a:pt x="56" y="0"/>
                    </a:moveTo>
                    <a:cubicBezTo>
                      <a:pt x="28" y="20"/>
                      <a:pt x="0" y="40"/>
                      <a:pt x="8" y="48"/>
                    </a:cubicBezTo>
                    <a:cubicBezTo>
                      <a:pt x="16" y="56"/>
                      <a:pt x="60" y="52"/>
                      <a:pt x="104" y="48"/>
                    </a:cubicBez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8000">
    <p:checker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05120" y="289548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Media Frenz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843280" y="158760"/>
            <a:ext cx="4319640" cy="1206360"/>
            <a:chOff x="2843280" y="158760"/>
            <a:chExt cx="4319640" cy="1206360"/>
          </a:xfrm>
        </p:grpSpPr>
        <p:sp>
          <p:nvSpPr>
            <p:cNvPr id="212" name=""/>
            <p:cNvSpPr/>
            <p:nvPr/>
          </p:nvSpPr>
          <p:spPr>
            <a:xfrm>
              <a:off x="4603680" y="270000"/>
              <a:ext cx="2559240" cy="9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8280" y="212760"/>
              <a:ext cx="2965320" cy="1098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43280" y="158760"/>
              <a:ext cx="122040" cy="120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18040" y="293760"/>
              <a:ext cx="2489040" cy="94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egative World Vie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33520" y="4114800"/>
            <a:ext cx="8381880" cy="181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cent Statisti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me dow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merica reporting up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0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what you are looking at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omb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99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0e02"/>
                </a:solidFill>
                <a:latin typeface="Arial"/>
              </a:rPr>
              <a:t>GENET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Grandparents did it to me. (Inherited tra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99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0e02"/>
                </a:solidFill>
                <a:latin typeface="Arial"/>
              </a:rPr>
              <a:t>PSYCH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arents did it to me. (Upbrin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99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0e02"/>
                </a:solidFill>
                <a:latin typeface="Arial"/>
              </a:rPr>
              <a:t>ENVIRONMENT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Spouse, my Boss, the Company, the Economy, etc.. is doing this to me.  (Surround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843280" y="311040"/>
            <a:ext cx="4319640" cy="1206720"/>
            <a:chOff x="2843280" y="311040"/>
            <a:chExt cx="4319640" cy="1206720"/>
          </a:xfrm>
        </p:grpSpPr>
        <p:sp>
          <p:nvSpPr>
            <p:cNvPr id="219" name=""/>
            <p:cNvSpPr/>
            <p:nvPr/>
          </p:nvSpPr>
          <p:spPr>
            <a:xfrm>
              <a:off x="4603680" y="422280"/>
              <a:ext cx="2559240" cy="9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78280" y="365040"/>
              <a:ext cx="2965320" cy="1098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43280" y="311040"/>
              <a:ext cx="122040" cy="120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82880" y="433440"/>
              <a:ext cx="3143160" cy="94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terminism The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8000">
    <p:comb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2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98200" y="1600200"/>
            <a:ext cx="7467480" cy="4460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00"/>
              </a:gs>
              <a:gs pos="100000">
                <a:srgbClr val="ccccff"/>
              </a:gs>
            </a:gsLst>
            <a:lin ang="13500000"/>
          </a:gradFill>
          <a:ln w="255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e some people just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r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positive   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thin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 . . or is it their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OIC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Jester"/>
              </a:rPr>
              <a:t>Life’s Little Question</a:t>
            </a:r>
            <a:endParaRPr b="0" lang="en-US" sz="4000" spc="-1" strike="noStrike">
              <a:solidFill>
                <a:srgbClr val="3333cc"/>
              </a:solidFill>
              <a:latin typeface="Jester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543800" y="2819520"/>
          <a:ext cx="91440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819520"/>
                    <a:ext cx="91440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8000">
    <p:cover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6:33:36Z</dcterms:created>
  <dc:creator/>
  <dc:description/>
  <dc:language>en-US</dc:language>
  <cp:lastModifiedBy>system3</cp:lastModifiedBy>
  <cp:lastPrinted>2000-07-08T16:28:20Z</cp:lastPrinted>
  <dcterms:modified xsi:type="dcterms:W3CDTF">2009-08-25T08:10:36Z</dcterms:modified>
  <cp:revision>0</cp:revision>
  <dc:subject/>
  <dc:title>Positive Attitude</dc:title>
</cp:coreProperties>
</file>